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205-F7B5-419D-A4A8-C20F5F02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57C-2297-4EB5-A7EC-2E3D0F1C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EDC-D2BC-469C-A1EE-C24B9142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24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048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24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FD2-E79F-4B4A-B2FE-1920001A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661D-715E-4A34-99D4-9F7FAC39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D78-015B-4023-942E-5D3EC080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3760-9810-4302-B271-52B9DE16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26A-D031-4D13-BFB8-A93705D5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9040" y="61272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717-19FB-4D27-A736-4A308303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155-65FA-4F4A-A742-7569787F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2BC-BC32-4E19-8EC8-511F0749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861-4756-493E-939C-DDCE93F3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../brunel%20pieces/coffee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Comic Sans MS"/>
              </a:rPr>
              <a:t>A content-free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">
            <a:hlinkClick r:id="rId2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Rounded MT Bold"/>
              </a:rPr>
              <a:t>Designing multiple-choice questions</a:t>
            </a:r>
            <a:endParaRPr b="1" lang="en-US" sz="4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‘content free test’ was published by Roger Lewis in the ’80s. He can’t remember where the questions came from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’ve added some discussion of the ‘right’ answers in the slide sequence which follows…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F5A-1D75-4C0A-8E78-C7895079019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FE2F4-5509-46F2-9536-CB596A8E60E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uckerpod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AB6-06EB-40F5-9A27-F5B506F41137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65F3E-5E60-44E7-8141-943C37298FE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1607-887C-4B94-828A-9EB54B527A1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73298-DE66-4BBA-96AB-5494A7B50DD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</a:t>
            </a:r>
            <a:r>
              <a:rPr b="1" lang="en-US" sz="4800" spc="-1" strike="noStrike">
                <a:solidFill>
                  <a:srgbClr val="cc0000"/>
                </a:solidFill>
                <a:latin typeface="Arial Rounded MT Bold"/>
              </a:rPr>
              <a:t>grunge</a:t>
            </a: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978360" y="296856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include a word from the stem in one of the options, or it will make people think it is the correct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6D0-0FA3-4B93-B264-2BC889A3DBB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5554E-BA14-43C9-A762-B5FC8219F21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2280" y="234468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32440" y="3859200"/>
            <a:ext cx="414468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is option looks more probable, because it is longer, and because it is the only one which is qual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224-E129-43EC-9D79-1B238AC43FDE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D7AB8-F331-4A55-8C59-6594999806E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</a:t>
            </a:r>
            <a:r>
              <a:rPr b="1" lang="en-GB" sz="3600" spc="-1" strike="noStrike">
                <a:solidFill>
                  <a:srgbClr val="cc0000"/>
                </a:solidFill>
                <a:latin typeface="Comic Sans MS"/>
              </a:rPr>
              <a:t>usually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124080"/>
            <a:ext cx="4145040" cy="3210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on’t mix indefinites with definites – indefinites are more likely to be correct. (Indefinites: usually, sometimes, often, seldom…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efinites: all, never, none, and so 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C79-F336-4712-A9C1-72F242BFFC3D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6B7F5-688C-4E78-864A-76D9DB9DE9E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llow the indefinite article (‘an’) to give away the righ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D38-B6C6-46EF-9F91-CC4B3E40E1B9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B27F5-AFF9-41C7-B570-2E1EB803F6E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exception</a:t>
            </a: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sk for something plural, then make just one option pl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700-EA3C-4F5E-BDB1-1C676E763AF2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267A2-C41B-4CDB-8754-E9E7ADF69D2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It it’s not this option, it can’t be any of them (one way of thinking about it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A9C-F5C9-4959-B125-44644FBCB1F7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5C796-084D-4E33-8439-62DFCD529C2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uckerpod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5440" y="440532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Be careful about overlapping questions! Candidates should look at both questions, and get maximum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B896-D617-4292-8245-5C771598CFC6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B2C13-D9FF-4F80-A297-8A6BF8B957B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8360" y="2968560"/>
            <a:ext cx="414504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ere was a pattern. ‘D’ is due to come u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3A9-6F93-4D5C-9667-4A51DAD5D840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5C8B3-D0FB-4CDA-B056-CF092B48579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8400" y="622440"/>
            <a:ext cx="7747200" cy="1117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Rounded MT Bold"/>
              </a:rPr>
              <a:t>A content-free test!</a:t>
            </a:r>
            <a:endParaRPr b="1" lang="en-US" sz="5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2280" y="1987200"/>
            <a:ext cx="7759440" cy="41022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 work on your ow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y out your exam technique to pick the most likely option for each of the eight question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n try to work out why you made your selec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feel you can make sense of the questions, please seek help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E39E-B7D0-46BC-A085-A3D8BA373B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71B3E-BCF3-422D-ABFC-599456D0026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2280" y="158760"/>
            <a:ext cx="7759440" cy="11304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rrect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2280" y="1530360"/>
            <a:ext cx="7759440" cy="5092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8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B09-DB56-4800-8C84-C80C220E65C5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9375E-A460-4D7E-B904-2FDEF76D305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2" dur="1" fill="hold"/>
                                  <p:tgtEl>
                                    <p:spTgt spid="8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Rounded MT Bold"/>
              </a:rPr>
              <a:t>Please jot down numbers 1-8</a:t>
            </a:r>
            <a:endParaRPr b="1" lang="en-US" sz="40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DA3-7D64-429B-B3B9-DE562A2B9CF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C341F-1030-4C36-829B-D42735999E0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grunge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BF5-C3AE-4FF8-8690-574CAF9C3A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86773-7613-42CF-9000-695692EC4E3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596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54D-56BD-4FCF-80CE-34E46AF72640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E69AB-F74A-46B1-BA7C-3755D1DD6A2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usually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455-F2E8-43D6-B16B-7155600353D3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93ABD-5A4D-4730-BDCF-66248A0B74A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9E3-4A1B-41D7-BDA2-92ABD1BD1B2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48A2A-3DFB-4D27-B71E-2FC620C9B4C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exceptions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D5C-CB4A-48FD-8057-7A99A37ED141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569BD-85DD-45C2-A329-F1C033FEDC9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8E32-8610-4FBA-A5E9-58000147D63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1D808-CC59-40BB-8ABA-9F371DA6CF5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hil Race</dc:creator>
  <dc:description/>
  <dc:language>en-US</dc:language>
  <cp:lastModifiedBy>Brown</cp:lastModifiedBy>
  <cp:lastPrinted>1998-10-04T07:57:04Z</cp:lastPrinted>
  <dcterms:modified xsi:type="dcterms:W3CDTF">2008-09-09T09:34:58Z</dcterms:modified>
  <cp:revision>23023</cp:revision>
  <dc:subject/>
  <dc:title>No Slide Title</dc:title>
</cp:coreProperties>
</file>