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7A92-9C62-4F52-B662-740DD635B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776304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90480" y="4130280"/>
            <a:ext cx="776304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226E-8C46-405B-A553-1AF48403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0480" y="413028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28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C8B8-CE53-4646-BF33-869140D69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5240" y="198576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0000" y="198576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90480" y="413028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5240" y="413028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0000" y="413028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0C9D-C033-4DB2-B9AB-32952338A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5C28-6305-468F-989F-B0F7DFD9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D8C9-0681-40E2-B1F1-E85C0E31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C1EB-1C1F-4916-873F-F7EC1BA7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D638-50C6-4785-8C1F-302EF1D2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9040" y="612720"/>
            <a:ext cx="776592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5B77-7835-4606-A8B4-05D36648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90480" y="413028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C048-CA5B-48A6-A698-3AFDF8B8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28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7FC7-0014-427D-9C04-D0CA94DD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90480" y="4130280"/>
            <a:ext cx="776304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4B3F-B716-4858-9111-86B55E12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file:///../brunel%20pieces/coffee.ppt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Comic Sans MS"/>
              </a:rPr>
              <a:t>A content-free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 Rounded MT Bold"/>
              </a:rPr>
              <a:t>Click to edit the title text format</a:t>
            </a: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">
            <a:hlinkClick r:id="rId2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Rounded MT Bold"/>
              </a:rPr>
              <a:t>Designing multiple-choice questions</a:t>
            </a:r>
            <a:endParaRPr b="1" lang="en-US" sz="44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s ‘content free test’ was published by Roger Lewis in the ’80s. He can’t remember where the questions came from.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’ve added some discussion of the ‘right’ answers in the slide sequence which follows…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04BF-3088-4290-9792-EC652EE5ED1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769102-2716-4645-B454-91B1CEC0787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7: One common disorder of an overspragged uckerpod 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opious vezzl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intermittent weggerm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non-responsive frattl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uneven yerk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94DB-1B90-4800-80C0-005E8D07FBB6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4BE609-E483-40A7-AEAA-C67DBC4FE4D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8: Which of these is the correct ans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87C5-277F-46E7-B5EB-42F4DBBF6E40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FFD402-05F6-43D6-8921-2997DA18378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5600" y="23508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 Rounded MT Bold"/>
              </a:rPr>
              <a:t>1: The usual function of </a:t>
            </a:r>
            <a:r>
              <a:rPr b="1" lang="en-US" sz="4800" spc="-1" strike="noStrike">
                <a:solidFill>
                  <a:srgbClr val="cc0000"/>
                </a:solidFill>
                <a:latin typeface="Arial Rounded MT Bold"/>
              </a:rPr>
              <a:t>grunge</a:t>
            </a:r>
            <a:r>
              <a:rPr b="1" lang="en-US" sz="4800" spc="-1" strike="noStrike">
                <a:solidFill>
                  <a:srgbClr val="ffff66"/>
                </a:solidFill>
                <a:latin typeface="Arial Rounded MT Bold"/>
              </a:rPr>
              <a:t> prowkers is to remove:</a:t>
            </a: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5600" y="236844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grunge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nart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ig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rod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3978360" y="2968560"/>
            <a:ext cx="4145040" cy="1922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Don’t include a word from the stem in one of the options, or it will make people think it is the correct op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8D60-D959-402B-BE97-5A0B80F4201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BE066B-DE88-4201-9396-F6DCB5123D2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15960" y="15876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2: Antigrottification occur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92280" y="234468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spring morning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on summer evenings provided there is no rain before dus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autumn afterno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winter nigh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32440" y="3859200"/>
            <a:ext cx="4144680" cy="1922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This option looks more probable, because it is longer, and because it is the only one which is qualif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6B72-7120-441B-8704-15F9C3C7EDFD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32769B-5070-4200-AA44-E7BA903796F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15960" y="23508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3: Lurkies suffer from trangitis becaus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2280" y="2368440"/>
            <a:ext cx="7759440" cy="3949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971640" indent="-97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heir prads are always underdevelop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71640" indent="-97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ll their brizes are horizont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71640" indent="-97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heir curnpieces are </a:t>
            </a:r>
            <a:r>
              <a:rPr b="1" lang="en-GB" sz="3600" spc="-1" strike="noStrike">
                <a:solidFill>
                  <a:srgbClr val="cc0000"/>
                </a:solidFill>
                <a:latin typeface="Comic Sans MS"/>
              </a:rPr>
              <a:t>usually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imperfe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71640" indent="-97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none of their dringoes can ever adap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124080"/>
            <a:ext cx="4145040" cy="3210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Tahoma"/>
              </a:rPr>
              <a:t>Don’t mix indefinites with definites – indefinites are more likely to be correct. (Indefinites: usually, sometimes, often, seldom…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Tahoma"/>
              </a:rPr>
              <a:t>Definites: all, never, none, and so 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3EE0-CB40-485E-B61C-225365C8E4FF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8E6605-6E2C-4778-83D6-6F042E9B4F5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4: Non-responsive frattling is usually found in </a:t>
            </a: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a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92280" y="236844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gri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janke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klopp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uckerp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78360" y="2968560"/>
            <a:ext cx="4145040" cy="1191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Don’t allow the indefinite article (‘an’) to give away the right ans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F3B1-A39E-4168-95F4-0263CEE07F82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29C1DB-76EE-445F-8D35-9BBD38DF06A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92280" y="311040"/>
            <a:ext cx="7759440" cy="189252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5: Which are </a:t>
            </a: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exception</a:t>
            </a:r>
            <a:r>
              <a:rPr b="1" lang="en-GB" sz="60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 to the law of lompicali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798480" indent="-798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The miltrip and the nattercu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98480" indent="-798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bifid pantri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98480" indent="-798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common quee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98480" indent="-798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flanged ozz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78360" y="2968560"/>
            <a:ext cx="4145040" cy="1191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Don’t ask for something plural, then make just one option pl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0210-77ED-40E6-AE77-F0990D736D12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1ECE66-35C0-4146-B323-D588E1454F0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15960" y="15876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6: Which must be present for parbling to take pla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5960" y="229248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Phlot and 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Stuke and 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Runge and trak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78360" y="2968560"/>
            <a:ext cx="4145040" cy="1191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It it’s not this option, it can’t be any of them (one way of thinking about it!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2549-8FEE-4FED-B2BD-F1151DD672EF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94006C-1BDF-48A9-91D4-16A0BE55E21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7: One common disorder of an overspragged </a:t>
            </a: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uckerpod</a:t>
            </a: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 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opious vezzl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intermittent weggerm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non-responsive frattl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uneven yerk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35440" y="4405320"/>
            <a:ext cx="4145040" cy="1922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Be careful about overlapping questions! Candidates should look at both questions, and get maximum think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4898-2880-49F6-B031-86E40F27DE9C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5F62F7-DBEE-4DB3-8C11-14FB0B132E9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8: Which of these is the correct ans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78360" y="2968560"/>
            <a:ext cx="4145040" cy="825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There was a pattern. ‘D’ is due to come up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00A9-E679-4E43-9D46-7ECC0257A0EC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9DFE64-05BF-4130-94AC-D54740EA06D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8400" y="622440"/>
            <a:ext cx="7747200" cy="1117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 Rounded MT Bold"/>
              </a:rPr>
              <a:t>A content-free test!</a:t>
            </a:r>
            <a:endParaRPr b="1" lang="en-US" sz="54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2280" y="1987200"/>
            <a:ext cx="7759440" cy="410220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lease work on your own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ry out your exam technique to pick the most likely option for each of the eight questions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n try to work out why you made your selection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f you feel you can make sense of the questions, please seek help!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996E-071A-47B0-B598-15D488BB509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0AAD07-5250-4C6D-A111-7C9C875A3CD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92280" y="158760"/>
            <a:ext cx="7759440" cy="11304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Correct answer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92280" y="1530360"/>
            <a:ext cx="7759440" cy="50925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8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5014-8CD8-4F66-AACC-18F201DE892C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B52475-9A33-4312-AD97-7227AF47462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2" dur="1" fill="hold"/>
                                  <p:tgtEl>
                                    <p:spTgt spid="8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 Rounded MT Bold"/>
              </a:rPr>
              <a:t>Please jot down numbers 1-8</a:t>
            </a:r>
            <a:endParaRPr b="1" lang="en-US" sz="40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EBF7-774F-4A9B-953F-10F60422A94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622F94-DDB5-4A7C-9415-1F2DD4ACDA6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5600" y="23508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 Rounded MT Bold"/>
              </a:rPr>
              <a:t>1: The usual function of grunge prowkers is to remove:</a:t>
            </a: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5600" y="236844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runge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nart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ig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rod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0259-8FD1-4BF1-B567-C4EC9751262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52887B-AFCB-438F-AA18-99531428777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15960" y="15876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2: Antigrottification occur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5960" y="236844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spring morning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summer evenings provided there is no rain before dus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autumn afterno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winter nigh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EF9C-DD49-42E5-8614-9B8934FC229F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D94AD4-7D68-4489-BDEC-79830962328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5960" y="23508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3: Lurkies suffer from trangitis becaus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2280" y="2368440"/>
            <a:ext cx="7759440" cy="3949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heir prads are always underdevelop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ll their brizes are horizont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heir curnpieces are usually imperfe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none of their dringoes can ever adap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DAFA-D8BF-49C8-8929-F793042B5BCD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08B071-09C2-447C-ABD2-7B3576DD8FD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4: Non-responsive frattling is usually found in a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2280" y="236844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gri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janke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klopp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uckerp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470F-299E-4DA3-829D-C87DF876549C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83041D-4F96-4646-9AE0-8124014BB92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92280" y="311040"/>
            <a:ext cx="7759440" cy="18925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5: Which are exceptions to the law of lompicali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miltrip and the nattercu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bifid pantri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common quee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flanged ozz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FFA7-1D2A-4A55-9724-4DEA5D8D12B7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4661C7-3848-487F-9C01-3BE6CC8DA7A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15960" y="15876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6: Which must be present for parbling to take pla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5960" y="229248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Phlot and 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Stuke and 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Runge and trak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8728-72CD-459A-9055-C7768AA7EF58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052E40-B06F-4BF8-AF16-51C7E4BDA35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hil Race</dc:creator>
  <dc:description/>
  <dc:language>en-US</dc:language>
  <cp:lastModifiedBy>Brown</cp:lastModifiedBy>
  <cp:lastPrinted>1998-10-04T07:57:04Z</cp:lastPrinted>
  <dcterms:modified xsi:type="dcterms:W3CDTF">2008-09-09T09:34:58Z</dcterms:modified>
  <cp:revision>23023</cp:revision>
  <dc:subject/>
  <dc:title>No Slide Title</dc:title>
</cp:coreProperties>
</file>