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609-D430-424F-BD6A-991E7C08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404-C4DA-4E73-8489-9902A929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75D-F0F4-4726-95E0-712CB2B8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24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048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24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0FD-1671-4444-B366-5E4CCD20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95D-1570-4ECF-8F8F-9E6CFB2B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012-E7FB-4A52-B4CC-900C519F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0B8-00E2-4D9A-AFCB-FF1737F6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96B-0550-4FC3-9D72-1878FC0E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9040" y="61272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B6F-C22E-40D7-B2FE-E5F0D657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547-4116-4A11-AEBC-029E5733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9F1-EA1A-4711-83DE-76A3571D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9A4-EFC7-4398-8925-F38F1775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../brunel%20pieces/coffee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A content-fre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Rounded MT Bold"/>
              </a:rPr>
              <a:t>Designing multiple-choice questions</a:t>
            </a:r>
            <a:endParaRPr b="1" lang="en-US" sz="4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‘content free test’ was published by Roger Lewis in the ’80s. He can’t remember where the questions came from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’ve added some discussion of the ‘right’ answers in the slide sequence which follows…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25C-E54A-4C05-9776-FEE3EDE0001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CFE6D-2664-4193-BB18-6B066C69E86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uckerpod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82C-1147-46B8-B596-FAAE3CD14AFA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87C85-E830-4E38-A027-45E896A77D0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1E2-1460-48E9-8A96-158C9B39D35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9B9DB-094C-4DBB-A836-EB342215BF8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</a:t>
            </a:r>
            <a:r>
              <a:rPr b="1" lang="en-US" sz="4800" spc="-1" strike="noStrike">
                <a:solidFill>
                  <a:srgbClr val="cc0000"/>
                </a:solidFill>
                <a:latin typeface="Arial Rounded MT Bold"/>
              </a:rPr>
              <a:t>grunge</a:t>
            </a: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978360" y="296856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include a word from the stem in one of the options, or it will make people think it is the correct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4F6-FAA7-4BE7-8E80-D79853D7DD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59575-1381-4A78-B2FB-CEB7CB0A84C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2280" y="234468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2440" y="3859200"/>
            <a:ext cx="41446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is option looks more probable, because it is longer, and because it is the only one which is qual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A7F-13E3-4088-AD55-6A6BCB06E06F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32319-C2B9-4814-B2E7-DDA2C56CB30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</a:t>
            </a:r>
            <a:r>
              <a:rPr b="1" lang="en-GB" sz="3600" spc="-1" strike="noStrike">
                <a:solidFill>
                  <a:srgbClr val="cc0000"/>
                </a:solidFill>
                <a:latin typeface="Comic Sans MS"/>
              </a:rPr>
              <a:t>usually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124080"/>
            <a:ext cx="4145040" cy="3210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on’t mix indefinites with definites – indefinites are more likely to be correct. (Indefinites: usually, sometimes, often, seldom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efinites: all, never, none, and so 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C43-46A5-47D5-B6E9-099E1A65F42C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05550-9024-498B-9BFE-8525A4A0456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llow the indefinite article (‘an’) to give away the righ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369-14DF-49EB-9A6C-BC15DFDFC34C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45C50-A9D9-4D04-AB10-309A681C130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exception</a:t>
            </a: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sk for something plural, then make just one option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5A0-1C4D-4ABF-93C9-B82018E2332A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A8499-4673-4546-9F78-1BFD0C37E24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It it’s not this option, it can’t be any of them (one way of thinking about it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C96-C43A-419D-9D51-8ED040C227D4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7B7B9-AC05-4CBB-9A12-E4BAF373898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uckerpod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5440" y="440532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Be careful about overlapping questions! Candidates should look at both questions, and get maximum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E03-18CB-4BB5-BDFF-B0EDD31BE033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74B22-6CA2-4A94-8BCD-B747CCDF9C3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8360" y="2968560"/>
            <a:ext cx="414504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ere was a pattern. ‘D’ is due to come u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B83-3E9A-4FD1-8064-5E5F55E652C9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01818-38A8-454B-A7CC-9C9B05E7611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8400" y="622440"/>
            <a:ext cx="7747200" cy="1117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Rounded MT Bold"/>
              </a:rPr>
              <a:t>A content-free test!</a:t>
            </a:r>
            <a:endParaRPr b="1" lang="en-US" sz="5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2280" y="1987200"/>
            <a:ext cx="7759440" cy="41022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 work on your ow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y out your exam technique to pick the most likely option for each of the eight ques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 try to work out why you made your selec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feel you can make sense of the questions, please seek help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EF4-8B81-4673-8EB8-765AD475C3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4F9AF-C284-4159-9795-CA2EDE916FA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2280" y="158760"/>
            <a:ext cx="7759440" cy="11304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rrect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2280" y="1530360"/>
            <a:ext cx="7759440" cy="509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8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A16-FAFD-4072-9550-70311173A34A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D3894-522A-4C72-AD1A-B0E58EB3C7E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Rounded MT Bold"/>
              </a:rPr>
              <a:t>Please jot down numbers 1-8</a:t>
            </a:r>
            <a:endParaRPr b="1" lang="en-US" sz="40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011-2169-4B30-8227-32FDA95D07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DD68D-2DAF-4793-BD67-52452507999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grunge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BC9-DF39-4061-8441-418F7E6612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05A6C-9977-4AE7-BB3D-03C3802C3D7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596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AA7-375A-4B11-A2E9-2061F095B8BB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C3355-7C3E-417D-8341-00136A0B848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usually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BE9-1B10-4B20-BFFC-262E0F6165D9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8D75B-D9E4-40AC-9647-94C6364A54B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9AF-916F-4B35-81D0-2D58653D3448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4DC54-7EE2-4D76-95FA-3103EEC3423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exceptions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263-81A2-4ACD-82C7-8ED135551B1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92CBC-6345-4567-B453-A71B09EC33F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8D4E-A122-4568-8D14-AD02787FD84B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E4A36-FA72-44C3-ABA6-48BEEEEB6CE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hil Race</dc:creator>
  <dc:description/>
  <dc:language>en-US</dc:language>
  <cp:lastModifiedBy>Brown</cp:lastModifiedBy>
  <cp:lastPrinted>1998-10-04T07:57:04Z</cp:lastPrinted>
  <dcterms:modified xsi:type="dcterms:W3CDTF">2008-09-09T09:34:58Z</dcterms:modified>
  <cp:revision>23023</cp:revision>
  <dc:subject/>
  <dc:title>No Slide Title</dc:title>
</cp:coreProperties>
</file>