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278DE-0245-40BC-B82F-E1160DC37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6E5A-A21B-476D-863F-41ADE0DB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6E33-BD81-479A-ABC0-B8DD43387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524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0000" y="198576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9048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524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0000" y="4130280"/>
            <a:ext cx="24994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33AC6-C502-4BDF-B1C4-E52D7480E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7294-846F-49D3-A7B9-8C8C4EB58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484B-C933-443F-9F37-4C3B8CD8B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64E03-4989-42F8-85BA-3FABBD917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31DC3-B83F-4CDF-9F54-82AFE2FB4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9040" y="612720"/>
            <a:ext cx="7765920" cy="52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46603-F81D-4021-9F5A-F0B9106F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E316-4349-4ED5-B462-09D47842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4105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28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D0106-B6C4-4A0D-84C3-327B82E8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5760"/>
            <a:ext cx="378828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90480" y="4130280"/>
            <a:ext cx="7763040" cy="1958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99AD-F3B2-4B59-8749-6A955B7B0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hyperlink" Target="file:///../brunel%20pieces/coffee.ppt" TargetMode="External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0000cc"/>
                </a:solidFill>
                <a:latin typeface="Comic Sans M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cc"/>
                </a:solidFill>
                <a:latin typeface="Comic Sans MS"/>
              </a:rPr>
              <a:t>A content-free te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23623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Click to edit the title text format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-28584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3" marL="16002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4" marL="2057400" indent="-22860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5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lvl="6" marL="2057400" indent="-228600">
              <a:lnSpc>
                <a:spcPct val="8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">
            <a:hlinkClick r:id="rId2"/>
          </p:cNvPr>
          <p:cNvSpPr/>
          <p:nvPr/>
        </p:nvSpPr>
        <p:spPr>
          <a:xfrm>
            <a:off x="8101080" y="0"/>
            <a:ext cx="1042920" cy="104292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 Rounded MT Bold"/>
              </a:rPr>
              <a:t>Designing multiple-choice questions</a:t>
            </a:r>
            <a:endParaRPr b="1" lang="en-US" sz="4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This ‘content free test’ was published by Roger Lewis in the ’80s. He can’t remember where the questions came from.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I’ve added some discussion of the ‘right’ answers in the slide sequence which follows…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AE8CD-51B0-4DE4-A88D-3768D9DE7971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021686-F624-4319-B5C6-63E1848B032E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uckerpod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E58F9-8FAB-400F-B0B3-5C2E227560E6}" type="slidenum">
              <a:t>1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170E71-ACB6-4839-A57A-408DAF71FEA3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BB08B-5D8B-4D58-82CA-17F1BECAF3A7}" type="slidenum">
              <a:t>1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597B81-8E9E-42EB-AD36-06AD5DF6B58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</a:t>
            </a:r>
            <a:r>
              <a:rPr b="1" lang="en-US" sz="4800" spc="-1" strike="noStrike">
                <a:solidFill>
                  <a:srgbClr val="cc0000"/>
                </a:solidFill>
                <a:latin typeface="Arial Rounded MT Bold"/>
              </a:rPr>
              <a:t>grunge</a:t>
            </a: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"/>
          <p:cNvSpPr/>
          <p:nvPr/>
        </p:nvSpPr>
        <p:spPr>
          <a:xfrm>
            <a:off x="3978360" y="296856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include a word from the stem in one of the options, or it will make people think it is the correct op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B42C4-EEDF-4CEE-B4D0-FEA6BE046348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5A28B7-5406-4C1D-978B-54737E772B50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2280" y="234468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132440" y="3859200"/>
            <a:ext cx="414468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is option looks more probable, because it is longer, and because it is the only one which is qualifi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88445-4EA0-4749-8C1C-A6CA4CBCAFB6}" type="slidenum">
              <a:t>13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A39A55-D016-4B2E-B2F2-13B1245E1C6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</a:t>
            </a:r>
            <a:r>
              <a:rPr b="1" lang="en-GB" sz="3600" spc="-1" strike="noStrike">
                <a:solidFill>
                  <a:srgbClr val="cc0000"/>
                </a:solidFill>
                <a:latin typeface="Comic Sans MS"/>
              </a:rPr>
              <a:t>usually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971640" indent="-97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0" y="3124080"/>
            <a:ext cx="4145040" cy="3210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on’t mix indefinites with definites – indefinites are more likely to be correct. (Indefinites: usually, sometimes, often, seldom…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66"/>
                </a:solidFill>
                <a:latin typeface="Tahoma"/>
              </a:rPr>
              <a:t>Definites: all, never, none, and so 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28CF-463D-442E-8019-49B0CF56D54D}" type="slidenum">
              <a:t>14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AB6580-497D-4072-A83D-937693A3BF3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llow the indefinite article (‘an’) to give away the right answ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8923C-3914-40C4-B07C-CC9D2FFF942F}" type="slidenum">
              <a:t>1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7721E7-414A-4E01-800F-41A9C011DF9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solidFill>
            <a:srgbClr val="0000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exception</a:t>
            </a:r>
            <a:r>
              <a:rPr b="1" lang="en-GB" sz="6000" spc="-1" strike="noStrike">
                <a:solidFill>
                  <a:srgbClr val="cc0000"/>
                </a:solidFill>
                <a:latin typeface="Arial"/>
              </a:rPr>
              <a:t>s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798480" indent="-7984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Don’t ask for something plural, then make just one option plur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B135-3FCE-4E2A-B5DC-246554022FE5}" type="slidenum">
              <a:t>1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33FA87-9627-4B5B-86C8-3C97F73021C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978360" y="2968560"/>
            <a:ext cx="4145040" cy="11912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It it’s not this option, it can’t be any of them (one way of thinking about it!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727C9-4DA6-4A28-9E6C-EC1E4344E91B}" type="slidenum">
              <a:t>1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BDEA5-1CC3-4EDE-BE98-87B4E91023F1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7: One common disorder of an overspragged </a:t>
            </a:r>
            <a:r>
              <a:rPr b="1" lang="en-GB" sz="4400" spc="-1" strike="noStrike">
                <a:solidFill>
                  <a:srgbClr val="cc0000"/>
                </a:solidFill>
                <a:latin typeface="Arial"/>
              </a:rPr>
              <a:t>uckerpod</a:t>
            </a: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opious vezz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intermittent weggermen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cc0000"/>
                </a:solidFill>
                <a:latin typeface="Comic Sans MS"/>
              </a:rPr>
              <a:t>non-responsive frattling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neven yerkation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835440" y="4405320"/>
            <a:ext cx="4145040" cy="192276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Be careful about overlapping questions! Candidates should look at both questions, and get maximum think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457F-2BAE-486B-9D9C-0BAF474525E2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9F0CB4-3403-4689-9585-99BDA0C8236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8: Which of these is the correct answe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978360" y="2968560"/>
            <a:ext cx="4145040" cy="82548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66"/>
                </a:solidFill>
                <a:latin typeface="Tahoma"/>
              </a:rPr>
              <a:t>There was a pattern. ‘D’ is due to come up agai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D52F-0B7D-4CDC-AD08-66C2515FC98C}" type="slidenum">
              <a:t>1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514E8-FE47-465B-A26D-50E932F5F6B5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98400" y="622440"/>
            <a:ext cx="7747200" cy="111744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66"/>
                </a:solidFill>
                <a:latin typeface="Arial Rounded MT Bold"/>
              </a:rPr>
              <a:t>A content-free test!</a:t>
            </a:r>
            <a:endParaRPr b="1" lang="en-US" sz="54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92280" y="1987200"/>
            <a:ext cx="7759440" cy="410220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Please work on your ow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ry out your exam technique to pick the most likely option for each of the eight questions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Then try to work out why you made your selection.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lnSpc>
                <a:spcPct val="80000"/>
              </a:lnSpc>
              <a:buClr>
                <a:srgbClr val="cc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f you feel you can make sense of the questions, please seek help!</a:t>
            </a:r>
            <a:endParaRPr b="1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5083A-2FC0-4938-A8A4-B0E97758F2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B4911DB-33F1-44E0-A5B5-0BD44A5347EB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4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4" dur="1" fill="hold"/>
                                  <p:tgtEl>
                                    <p:spTgt spid="4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92280" y="158760"/>
            <a:ext cx="7759440" cy="113040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66"/>
                </a:solidFill>
                <a:latin typeface="Arial"/>
              </a:rPr>
              <a:t>Correct answe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92280" y="1530360"/>
            <a:ext cx="7759440" cy="509256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1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3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4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5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6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8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cc0000"/>
                </a:solidFill>
                <a:latin typeface="Comic Sans MS"/>
              </a:rPr>
              <a:t>D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77385-A53E-430E-80B6-07CC79E76800}" type="slidenum">
              <a:t>20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5AAB6C-852A-4901-ACDB-4254445DDD1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32" dur="1" fill="hold"/>
                                  <p:tgtEl>
                                    <p:spTgt spid="89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3333cc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9040" y="612720"/>
            <a:ext cx="7765920" cy="113688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66"/>
                </a:solidFill>
                <a:latin typeface="Arial Rounded MT Bold"/>
              </a:rPr>
              <a:t>Please jot down numbers 1-8</a:t>
            </a:r>
            <a:endParaRPr b="1" lang="en-US" sz="40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90480" y="1985760"/>
            <a:ext cx="7763040" cy="4105080"/>
          </a:xfrm>
          <a:prstGeom prst="rect">
            <a:avLst/>
          </a:prstGeom>
          <a:solidFill>
            <a:srgbClr val="ff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1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3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5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6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8</a:t>
            </a:r>
            <a:endParaRPr b="1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4ED0D-5B7B-44F7-A0D4-17D661BEA49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75FFA1-6A29-4517-B9E6-24C0821E2BD8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560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66"/>
                </a:solidFill>
                <a:latin typeface="Arial Rounded MT Bold"/>
              </a:rPr>
              <a:t>1: The usual function of grunge prowkers is to remove:</a:t>
            </a:r>
            <a:endParaRPr b="1" lang="en-US" sz="4800" spc="-1" strike="noStrike">
              <a:solidFill>
                <a:srgbClr val="ffff66"/>
              </a:solidFill>
              <a:latin typeface="Arial Rounded MT Bold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1560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unge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nart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rig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  <a:p>
            <a:pPr marL="85716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grods.</a:t>
            </a:r>
            <a:endParaRPr b="1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3C22-AC94-49F2-A7BA-EBB1CF49D24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B2E1B-7049-43DF-97F1-D44DE2B4B426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2: Antigrottification occur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15960" y="236844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pring morning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summer evenings provided there is no rain before dusk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autumn afternoon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on winter nights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467B6-0346-4197-A168-DD412C687399}" type="slidenum">
              <a:t>5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2C8D37-1406-41F1-ADE7-78279DE5E3EC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615960" y="23508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3: Lurkies suffer from trangitis because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92280" y="2368440"/>
            <a:ext cx="7759440" cy="394992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prads are always underdeveloped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all their brizes are horizontal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their curnpieces are usually imperfec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3600" spc="-1" strike="noStrike">
                <a:solidFill>
                  <a:srgbClr val="000000"/>
                </a:solidFill>
                <a:latin typeface="Comic Sans MS"/>
              </a:rPr>
              <a:t>none of their dringoes can ever adapt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DB94-A5CD-4011-B38F-E6E5058DA57B}" type="slidenum">
              <a:t>6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7D167A-836D-4A10-A68D-907DC586D50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692280" y="235080"/>
            <a:ext cx="775944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4: Non-responsive frattling is usually found in an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92280" y="236844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gringl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janket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kloppi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uckerpod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293C-1E43-460D-9E43-9803207AF3BD}" type="slidenum">
              <a:t>7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80A1A8-A9A5-4B43-8D59-2BAA39460ED7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692280" y="311040"/>
            <a:ext cx="7759440" cy="189252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5: Which are exceptions to the law of lompicality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92280" y="2444760"/>
            <a:ext cx="775944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miltrip and the nattercu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bifid pantrip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common queet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The flanged ozzer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C1B91-741E-4050-A515-0515BC8ED1B9}" type="slidenum">
              <a:t>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66CF34-8805-4536-8974-538E3784C28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efd1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615960" y="158760"/>
            <a:ext cx="7759800" cy="1892160"/>
          </a:xfrm>
          <a:prstGeom prst="rect">
            <a:avLst/>
          </a:prstGeom>
          <a:gradFill rotWithShape="0">
            <a:gsLst>
              <a:gs pos="0">
                <a:srgbClr val="ff8200"/>
              </a:gs>
              <a:gs pos="100000">
                <a:srgbClr val="000082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66"/>
                </a:solidFill>
                <a:latin typeface="Arial"/>
              </a:rPr>
              <a:t>6: Which must be present for parbling to take place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15960" y="2292480"/>
            <a:ext cx="7759800" cy="3340080"/>
          </a:xfrm>
          <a:prstGeom prst="rect">
            <a:avLst/>
          </a:prstGeom>
          <a:solidFill>
            <a:srgbClr val="cccc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A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Phlot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B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C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Stuke and rung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85716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GB" sz="4000" spc="-1" strike="noStrike">
                <a:solidFill>
                  <a:srgbClr val="000000"/>
                </a:solidFill>
                <a:latin typeface="Comic Sans MS"/>
              </a:rPr>
              <a:t>Runge and trake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E6E6B-32B5-4F21-AE6F-6824102BA665}" type="slidenum">
              <a:t>9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060E4D-31C8-4D7C-9954-98EBE6AA6922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17T23:31:02Z</dcterms:created>
  <dc:creator>Phil Race</dc:creator>
  <dc:description/>
  <dc:language>en-US</dc:language>
  <cp:lastModifiedBy>Brown</cp:lastModifiedBy>
  <cp:lastPrinted>1998-10-04T07:57:04Z</cp:lastPrinted>
  <dcterms:modified xsi:type="dcterms:W3CDTF">2008-09-09T09:34:58Z</dcterms:modified>
  <cp:revision>23023</cp:revision>
  <dc:subject/>
  <dc:title>No Slide Title</dc:title>
</cp:coreProperties>
</file>