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2FB-0659-41F7-BC75-3FFE37C2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029-3185-460E-ADFF-829F94A1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2B5-A566-49BD-A704-D479FC94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24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048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24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48B-4511-4B01-AEB4-76907692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E71-F44F-4A59-8A34-258F5E91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CCC-EAC7-4630-B503-C84DBAC3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C24-378B-4DCA-B663-0B7FED31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0BF-8DE6-446D-A6E1-A410EBA4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9040" y="61272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FAA-E099-4901-828E-1228A0F3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DF5-99E3-4EAA-B9CE-05017900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B02-8F75-4E06-95B3-27CF1FD9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24B-1322-48DE-9B2B-5EBBFD56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../brunel%20pieces/coffee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A content-fre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Rounded MT Bold"/>
              </a:rPr>
              <a:t>Designing multiple-choice questions</a:t>
            </a:r>
            <a:endParaRPr b="1" lang="en-US" sz="4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‘content free test’ was published by Roger Lewis in the ’80s. He can’t remember where the questions came from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’ve added some discussion of the ‘right’ answers in the slide sequence which follows…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1F5-1EE9-46BD-A798-A45C0B219EE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E36BE-1051-49BA-AD0A-6E40B2F8739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uckerpod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A31-B224-4F06-9ED8-C68AFE870AD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9B7DA-B8E3-4717-81E6-2D363A08489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74B-3236-4984-94F8-58D75A9AA1EE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986CB-0744-4FAD-BAD5-1EF6F449007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</a:t>
            </a:r>
            <a:r>
              <a:rPr b="1" lang="en-US" sz="4800" spc="-1" strike="noStrike">
                <a:solidFill>
                  <a:srgbClr val="cc0000"/>
                </a:solidFill>
                <a:latin typeface="Arial Rounded MT Bold"/>
              </a:rPr>
              <a:t>grunge</a:t>
            </a: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978360" y="296856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include a word from the stem in one of the options, or it will make people think it is the correct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9F1-FA3F-4A61-9AF7-C97BE3C4BB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772BF-2750-42E2-B197-C37996D7DE1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2280" y="234468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2440" y="3859200"/>
            <a:ext cx="41446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is option looks more probable, because it is longer, and because it is the only one which is qual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D94-73E3-4B6A-85C3-EA5376A5370F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3D043-063B-4483-A4AB-C8E87E9D761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</a:t>
            </a:r>
            <a:r>
              <a:rPr b="1" lang="en-GB" sz="3600" spc="-1" strike="noStrike">
                <a:solidFill>
                  <a:srgbClr val="cc0000"/>
                </a:solidFill>
                <a:latin typeface="Comic Sans MS"/>
              </a:rPr>
              <a:t>usually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124080"/>
            <a:ext cx="4145040" cy="3210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on’t mix indefinites with definites – indefinites are more likely to be correct. (Indefinites: usually, sometimes, often, seldom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efinites: all, never, none, and so 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CD7-F004-467B-8FAD-FC0F881D8DBE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A789F-C4BF-4FE5-8578-2D0343354B3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llow the indefinite article (‘an’) to give away the righ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721-91BC-4F55-AA73-4E26E82C8676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E1953-9B88-4DA9-B05B-71607939719A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exception</a:t>
            </a: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sk for something plural, then make just one option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E7D-A42F-45CA-A8B9-E4D9C4EB8230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4D914-99CD-42B2-AE03-08741C39F7A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It it’s not this option, it can’t be any of them (one way of thinking about it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A69-2219-4A3F-B38C-777F2DF6ACC7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29E7F-08FC-4E92-9441-3AC4C7C51FD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uckerpod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5440" y="440532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Be careful about overlapping questions! Candidates should look at both questions, and get maximum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A67-1D7B-4DF5-90D8-2BEBF929554A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26D79-68E0-4048-ABA1-3E28BACD1906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8360" y="2968560"/>
            <a:ext cx="414504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ere was a pattern. ‘D’ is due to come u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7CE-3606-4394-912B-8B842ADBEF94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80F14-7BE5-42D1-B332-B592F297674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8400" y="622440"/>
            <a:ext cx="7747200" cy="1117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Rounded MT Bold"/>
              </a:rPr>
              <a:t>A content-free test!</a:t>
            </a:r>
            <a:endParaRPr b="1" lang="en-US" sz="5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2280" y="1987200"/>
            <a:ext cx="7759440" cy="41022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 work on your ow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y out your exam technique to pick the most likely option for each of the eight ques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 try to work out why you made your selec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feel you can make sense of the questions, please seek help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198-EB4E-44D9-B8F8-3F77556373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0B726-B34A-4D0C-8671-1E790D3CB912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2280" y="158760"/>
            <a:ext cx="7759440" cy="11304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rrect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2280" y="1530360"/>
            <a:ext cx="7759440" cy="509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8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987-6EDB-4DBB-BB1B-0E753FF4C0FF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5B9A1-95B3-4C41-95C5-BAC50404C5B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Rounded MT Bold"/>
              </a:rPr>
              <a:t>Please jot down numbers 1-8</a:t>
            </a:r>
            <a:endParaRPr b="1" lang="en-US" sz="40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96E-BD5E-422A-A18C-F51A662C28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71EC5-EFBC-4522-BC18-4B33DD41E8F3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grunge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D585-C216-473B-9F5E-09DB41A282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3F584-B9F7-4906-9969-617B39797D4B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596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A3F-5C48-4768-A85F-05A4188AA3D7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45142-7D8B-4FF3-AAD4-C53BBB3A0EBD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usually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08B-5388-46DE-8FB3-CF08B05099F0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9B257-C396-46C4-BC13-15ACDB9DE9B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BA7-7EF8-4445-972B-1769266F7360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B3A88-FC13-4A90-891A-A3D2C27266B8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exceptions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116-06BD-4EC7-AF5F-A79B052A60A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56D2F-8282-4B90-A140-3DA8F837F057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135-36CD-491F-BC5A-60E9EABAC685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7E069-0EBE-4B33-A4D3-C9E1061C4DD4}" type="datetime3">
              <a:rPr lang="en-US"/>
              <a:t>July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hil Race</dc:creator>
  <dc:description/>
  <dc:language>en-US</dc:language>
  <cp:lastModifiedBy>Brown</cp:lastModifiedBy>
  <cp:lastPrinted>1998-10-04T07:57:04Z</cp:lastPrinted>
  <dcterms:modified xsi:type="dcterms:W3CDTF">2008-09-09T09:34:58Z</dcterms:modified>
  <cp:revision>23023</cp:revision>
  <dc:subject/>
  <dc:title>No Slide Title</dc:title>
</cp:coreProperties>
</file>