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2FF-223F-496C-A4F5-1E84BFB2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1C0-E445-4099-9F1E-15F27B50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F361-EBEA-4EF4-9D54-69ADFD69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24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048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24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F43-0523-4AF5-A960-2A6B7815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A18-CB11-4AE1-932E-CD77E3E6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230-E99D-4335-BEDD-687561A8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888-5D64-40BC-8F84-CE6380D0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695-239B-4F33-A57A-FB866C0C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9040" y="61272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4DE-BB3C-474D-B6CC-563951C6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4B8-C075-4C71-BC06-03B58499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446-A703-490E-BE79-AC2D7940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D8E-3A98-4E8F-9FA2-6087BFEC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../brunel%20pieces/coffee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A content-fre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Rounded MT Bold"/>
              </a:rPr>
              <a:t>Designing multiple-choice questions</a:t>
            </a:r>
            <a:endParaRPr b="1" lang="en-US" sz="4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‘content free test’ was published by Roger Lewis in the ’80s. He can’t remember where the questions came from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’ve added some discussion of the ‘right’ answers in the slide sequence which follows…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30C-2027-4E9A-AF97-4D423747098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0E68E-7545-43D3-9453-15584AD3962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uckerpod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815-7F7F-4267-B1CB-00DAC43634A8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38C23-9072-4E94-A191-EC698CEE051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F1C-BE62-4961-90A6-DEBFA6EEC0AD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51AC6-23B4-4D2B-AB97-98B7E091B61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</a:t>
            </a:r>
            <a:r>
              <a:rPr b="1" lang="en-US" sz="4800" spc="-1" strike="noStrike">
                <a:solidFill>
                  <a:srgbClr val="cc0000"/>
                </a:solidFill>
                <a:latin typeface="Arial Rounded MT Bold"/>
              </a:rPr>
              <a:t>grunge</a:t>
            </a: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978360" y="296856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include a word from the stem in one of the options, or it will make people think it is the correct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3C9-9A79-45CB-BC92-26315DDE422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913A5-5BBD-458C-8E1B-8D077085FC3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2280" y="234468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2440" y="3859200"/>
            <a:ext cx="41446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is option looks more probable, because it is longer, and because it is the only one which is qual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0E0-22E9-4BC3-93D5-281FE3531C8A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274AB-770D-479F-B9BE-E990D9BBE4E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</a:t>
            </a:r>
            <a:r>
              <a:rPr b="1" lang="en-GB" sz="3600" spc="-1" strike="noStrike">
                <a:solidFill>
                  <a:srgbClr val="cc0000"/>
                </a:solidFill>
                <a:latin typeface="Comic Sans MS"/>
              </a:rPr>
              <a:t>usually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124080"/>
            <a:ext cx="4145040" cy="3210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on’t mix indefinites with definites – indefinites are more likely to be correct. (Indefinites: usually, sometimes, often, seldom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efinites: all, never, none, and so 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715-B830-4494-9BAD-B0B77F90920D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2A7D6-48D3-4E22-87B6-1FC210E2AD7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llow the indefinite article (‘an’) to give away the righ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8EF-0571-44B7-BB91-C54EFA0C5095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4D519-A28F-446F-9F5C-EC4A36D8DC8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exception</a:t>
            </a: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sk for something plural, then make just one option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8B6-3559-478A-A7F1-4E505F2B5718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8EFFB-FBA7-428D-ACA6-6874362DCFA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It it’s not this option, it can’t be any of them (one way of thinking about it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40E-69F1-433B-812C-CDA05244AC1B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41BA1-01F0-4969-A131-5B597D74158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uckerpod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5440" y="440532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Be careful about overlapping questions! Candidates should look at both questions, and get maximum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CC2-B12A-4014-9A50-DF511DCEEB1A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EE51C-E25E-4B0A-9CE2-2372AE898B2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8360" y="2968560"/>
            <a:ext cx="414504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ere was a pattern. ‘D’ is due to come u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048-0221-40F7-BA30-8FF22F9FA953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DDE3C-CE4C-4DC7-8570-3854452AFDB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8400" y="622440"/>
            <a:ext cx="7747200" cy="1117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Rounded MT Bold"/>
              </a:rPr>
              <a:t>A content-free test!</a:t>
            </a:r>
            <a:endParaRPr b="1" lang="en-US" sz="5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2280" y="1987200"/>
            <a:ext cx="7759440" cy="41022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 work on your ow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y out your exam technique to pick the most likely option for each of the eight ques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 try to work out why you made your selec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feel you can make sense of the questions, please seek help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A4D-BB8F-4250-973D-2B439C4B74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678B5-9545-4A7E-B802-DB5DC92512B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2280" y="158760"/>
            <a:ext cx="7759440" cy="11304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rrect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2280" y="1530360"/>
            <a:ext cx="7759440" cy="509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8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A15-E4F0-4BFB-A1EE-572A24D01F1B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6B9C8-6657-4901-B244-F0EC107FE3A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Rounded MT Bold"/>
              </a:rPr>
              <a:t>Please jot down numbers 1-8</a:t>
            </a:r>
            <a:endParaRPr b="1" lang="en-US" sz="40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415-11A9-49EA-9480-C424E11C04D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A3748-1D71-4C25-8660-2C0C1EF7A58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grunge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575-927B-48A3-AD82-76E609700F3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A2E04-DEA5-4748-A3B1-CBBD87417A2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596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330-0261-4BA9-B331-33AE800C8A69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27E90-60BD-4DB7-89D6-85DB8285F23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usually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09F-EC46-46F6-90C0-B7E67E23B008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BDF0A-AB07-4914-B9D3-36832E0286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ACB-0F76-47D7-AC09-B49F72F2A4D8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27067-4EF3-4124-B404-E5DF6B0B385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exceptions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A68-1BF4-4A90-B6EB-76577C4037A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BC7D7-2F74-41D2-8C2E-CDB2B943631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C9E-83DB-4CFE-86B0-A223C31AAE2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393C1-69C9-4DA1-A02C-84D4067E3FF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hil Race</dc:creator>
  <dc:description/>
  <dc:language>en-US</dc:language>
  <cp:lastModifiedBy>Brown</cp:lastModifiedBy>
  <cp:lastPrinted>1998-10-04T07:57:04Z</cp:lastPrinted>
  <dcterms:modified xsi:type="dcterms:W3CDTF">2008-09-09T09:34:58Z</dcterms:modified>
  <cp:revision>23023</cp:revision>
  <dc:subject/>
  <dc:title>No Slide Title</dc:title>
</cp:coreProperties>
</file>