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5E66-47EB-423A-8983-9D3DA0CBB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776304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90480" y="4130280"/>
            <a:ext cx="776304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2E93-C222-4DCE-814D-031D5108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0480" y="413028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28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8AE6-51BB-438A-8498-FAFB12572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5240" y="198576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0000" y="198576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90480" y="413028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5240" y="413028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0000" y="413028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3666-7329-46B3-A79C-BD4F9F774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8562-2600-40A0-B580-63612BD2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F56C-F6A1-49B1-97DB-C15861E5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129F-3288-44E3-82DF-B10857D3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5428-1031-4CBD-9B1E-6F570E8D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9040" y="612720"/>
            <a:ext cx="776592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9A74-2C0D-4FB4-BEBF-DECC00D1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90480" y="413028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CC9E-EFF6-4BA0-9C03-BC2770B6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28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89B9-92E7-40C1-9F7C-88E5113F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90480" y="4130280"/>
            <a:ext cx="776304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40D1-98ED-4A35-91BF-6FD58997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file:///../brunel%20pieces/coffee.ppt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Comic Sans MS"/>
              </a:rPr>
              <a:t>A content-free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 Rounded MT Bold"/>
              </a:rPr>
              <a:t>Click to edit the title text format</a:t>
            </a: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">
            <a:hlinkClick r:id="rId2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Rounded MT Bold"/>
              </a:rPr>
              <a:t>Designing multiple-choice questions</a:t>
            </a:r>
            <a:endParaRPr b="1" lang="en-US" sz="44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s ‘content free test’ was published by Roger Lewis in the ’80s. He can’t remember where the questions came from.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’ve added some discussion of the ‘right’ answers in the slide sequence which follows…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8D73-5EC5-49D7-8EA8-976BC1A288B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2EC11B-9F9B-478B-B974-6FA7AD8ADEA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7: One common disorder of an overspragged uckerpod 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opious vezzl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intermittent weggerm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non-responsive frattl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uneven yerk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DDAF-AA63-4D20-854A-67AF5663B58F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C2CEB0-466D-4086-98C5-6C7DE3C8667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8: Which of these is the correct ans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B052-8915-480B-86F1-8052E0890E1E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28ED87-E7BB-4974-9ABC-2092BD3B4E8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5600" y="23508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 Rounded MT Bold"/>
              </a:rPr>
              <a:t>1: The usual function of </a:t>
            </a:r>
            <a:r>
              <a:rPr b="1" lang="en-US" sz="4800" spc="-1" strike="noStrike">
                <a:solidFill>
                  <a:srgbClr val="cc0000"/>
                </a:solidFill>
                <a:latin typeface="Arial Rounded MT Bold"/>
              </a:rPr>
              <a:t>grunge</a:t>
            </a:r>
            <a:r>
              <a:rPr b="1" lang="en-US" sz="4800" spc="-1" strike="noStrike">
                <a:solidFill>
                  <a:srgbClr val="ffff66"/>
                </a:solidFill>
                <a:latin typeface="Arial Rounded MT Bold"/>
              </a:rPr>
              <a:t> prowkers is to remove:</a:t>
            </a: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5600" y="236844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grunge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nart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ig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rod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3978360" y="2968560"/>
            <a:ext cx="4145040" cy="1922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Don’t include a word from the stem in one of the options, or it will make people think it is the correct op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A520-7E97-4408-9023-A2C83AA041C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3041B6-A044-4D63-BA41-9CFFBA1148F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15960" y="15876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2: Antigrottification occur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92280" y="234468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spring morning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on summer evenings provided there is no rain before dus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autumn afterno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winter nigh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32440" y="3859200"/>
            <a:ext cx="4144680" cy="1922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This option looks more probable, because it is longer, and because it is the only one which is qualif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CBE1-DAEC-4334-87B5-68C99C7F8890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763D55-F574-41A5-9565-32FF9FDB0A4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15960" y="23508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3: Lurkies suffer from trangitis becaus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2280" y="2368440"/>
            <a:ext cx="7759440" cy="3949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971640" indent="-97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heir prads are always underdevelop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71640" indent="-97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ll their brizes are horizont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71640" indent="-97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heir curnpieces are </a:t>
            </a:r>
            <a:r>
              <a:rPr b="1" lang="en-GB" sz="3600" spc="-1" strike="noStrike">
                <a:solidFill>
                  <a:srgbClr val="cc0000"/>
                </a:solidFill>
                <a:latin typeface="Comic Sans MS"/>
              </a:rPr>
              <a:t>usually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imperfe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71640" indent="-97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none of their dringoes can ever adap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124080"/>
            <a:ext cx="4145040" cy="3210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Tahoma"/>
              </a:rPr>
              <a:t>Don’t mix indefinites with definites – indefinites are more likely to be correct. (Indefinites: usually, sometimes, often, seldom…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Tahoma"/>
              </a:rPr>
              <a:t>Definites: all, never, none, and so 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382A-66DD-4B29-B649-86416CAFF63D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794D21-026A-4F4D-8247-8FEDE09BEA23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4: Non-responsive frattling is usually found in </a:t>
            </a: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a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92280" y="236844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gri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janke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klopp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uckerp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78360" y="2968560"/>
            <a:ext cx="4145040" cy="1191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Don’t allow the indefinite article (‘an’) to give away the right ans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723A-8088-40EA-A2AD-DF244067E5C5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EC7E7F-DE69-493C-B01A-2AAA2B957606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92280" y="311040"/>
            <a:ext cx="7759440" cy="189252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5: Which are </a:t>
            </a: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exception</a:t>
            </a:r>
            <a:r>
              <a:rPr b="1" lang="en-GB" sz="60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 to the law of lompicali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798480" indent="-798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The miltrip and the nattercu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98480" indent="-798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bifid pantri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98480" indent="-798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common quee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98480" indent="-798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flanged ozz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78360" y="2968560"/>
            <a:ext cx="4145040" cy="1191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Don’t ask for something plural, then make just one option pl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8073-E2A3-4577-9C03-04530C7D578B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F37E6D-E068-4205-AF33-454983E93552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15960" y="15876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6: Which must be present for parbling to take pla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5960" y="229248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Phlot and 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Stuke and 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Runge and trak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78360" y="2968560"/>
            <a:ext cx="4145040" cy="1191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It it’s not this option, it can’t be any of them (one way of thinking about it!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665D-7541-4BA3-B5CC-A3F77F5ABC39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5292AC-09F1-48B9-989C-93D1EE2CF1EA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7: One common disorder of an overspragged </a:t>
            </a: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uckerpod</a:t>
            </a: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 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opious vezzl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intermittent weggerm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non-responsive frattl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uneven yerk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35440" y="4405320"/>
            <a:ext cx="4145040" cy="1922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Be careful about overlapping questions! Candidates should look at both questions, and get maximum think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628E-46C6-4903-A804-0FF3647B83EE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D6C726-A1D5-4589-BBA9-EAB2DFB57B5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8: Which of these is the correct ans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78360" y="2968560"/>
            <a:ext cx="4145040" cy="825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There was a pattern. ‘D’ is due to come up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60E8-8F61-4E9E-8BA5-3FF2056CFEF1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80029D-7F3A-458E-AC67-73438173C56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8400" y="622440"/>
            <a:ext cx="7747200" cy="1117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 Rounded MT Bold"/>
              </a:rPr>
              <a:t>A content-free test!</a:t>
            </a:r>
            <a:endParaRPr b="1" lang="en-US" sz="54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2280" y="1987200"/>
            <a:ext cx="7759440" cy="410220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lease work on your own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ry out your exam technique to pick the most likely option for each of the eight questions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n try to work out why you made your selection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f you feel you can make sense of the questions, please seek help!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7BC6-D71F-48DF-ADE5-34EF3D0385E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31170E-9ED3-4923-B355-732A27593D6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92280" y="158760"/>
            <a:ext cx="7759440" cy="11304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Correct answer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92280" y="1530360"/>
            <a:ext cx="7759440" cy="50925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8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BE84-2727-4836-AB7B-D5432971636B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68C7CA-CB5B-44ED-9FAB-CB59845A39B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2" dur="1" fill="hold"/>
                                  <p:tgtEl>
                                    <p:spTgt spid="8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 Rounded MT Bold"/>
              </a:rPr>
              <a:t>Please jot down numbers 1-8</a:t>
            </a:r>
            <a:endParaRPr b="1" lang="en-US" sz="40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2512-0C10-41D5-8ACA-D840C37CA5A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9C7700-0942-4F69-915E-1EE6899C45B5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5600" y="23508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 Rounded MT Bold"/>
              </a:rPr>
              <a:t>1: The usual function of grunge prowkers is to remove:</a:t>
            </a: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5600" y="236844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runge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nart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ig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rod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036B-E971-486B-88D1-19752289583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0F1014-B939-401C-A6CF-281D7260A684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15960" y="15876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2: Antigrottification occur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5960" y="236844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spring morning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summer evenings provided there is no rain before dus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autumn afterno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winter nigh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015E-56C0-4EE3-9FEF-976A2C3D5A90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296607-9729-4081-B314-E50A25B4940D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5960" y="23508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3: Lurkies suffer from trangitis becaus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2280" y="2368440"/>
            <a:ext cx="7759440" cy="3949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heir prads are always underdevelop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ll their brizes are horizont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heir curnpieces are usually imperfe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none of their dringoes can ever adap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FB44-0F8B-4D60-9E1A-8F1DD4CB800D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A1E28D-9E00-4639-93D4-5B6FD9FA974B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4: Non-responsive frattling is usually found in a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2280" y="236844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gri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janke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klopp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uckerp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5755-A754-40B7-A05F-0AF3C8C0C286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3C6654-5262-44FB-8A07-69F13A49013E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92280" y="311040"/>
            <a:ext cx="7759440" cy="18925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5: Which are exceptions to the law of lompicali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miltrip and the nattercu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bifid pantri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common quee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flanged ozz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26EF-E2C3-4390-9C1F-29BFC48DC653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D99DB9-7696-44FA-96F1-BD23CA973210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15960" y="15876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6: Which must be present for parbling to take pla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5960" y="229248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Phlot and 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Stuke and 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Runge and trak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1201-E1E5-4792-A99F-D46E5FDDEE3C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713CD1-60AE-46BE-AFB5-66B29662388C}" type="datetime3">
              <a:rPr lang="en-US"/>
              <a:t>July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hil Race</dc:creator>
  <dc:description/>
  <dc:language>en-US</dc:language>
  <cp:lastModifiedBy>Brown</cp:lastModifiedBy>
  <cp:lastPrinted>1998-10-04T07:57:04Z</cp:lastPrinted>
  <dcterms:modified xsi:type="dcterms:W3CDTF">2008-09-09T09:34:58Z</dcterms:modified>
  <cp:revision>23023</cp:revision>
  <dc:subject/>
  <dc:title>No Slide Title</dc:title>
</cp:coreProperties>
</file>