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58AA5-E955-4C24-BD47-F6125CED1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20856-4A2A-4CCB-A368-AC442089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2A9E4-DF0E-4370-999F-DD8C2B51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118BC-ABF1-45A8-91CE-1BB14443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3794B0-7D3C-4108-ABEF-E6A4C81C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4BD51-E110-488B-A5FF-C2DB12C7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352E8-0E89-48BC-89F5-9DDD3A71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AD9B2-C646-4230-AFBA-ED9F62CB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EA199-4EF7-41A9-BEF7-B989B6AE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DB2261-E293-46CC-8732-AD762332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1F7EC-35AA-4FAF-94DD-51768924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0098E-AD44-46B7-AE41-9EB35E3C8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9B74A8-7262-40B4-B5C4-B28422A0E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6E94B5-93D8-4B71-B92C-4EAD7A14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CEBDD-CBCA-42FE-8916-3C1C40F4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4F5980-3792-469A-BE2F-C3E7A258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F57ADD-CC54-4B31-8291-667BC7F8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09105-070A-41DF-AD5B-BC6B9F0E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8BDCB-64F9-4093-964D-3C052E2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618557-3D2B-4AE0-9FCB-7F7852B8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A69183-CCE2-43EA-AAC8-6A7A795B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E4FFDF-9DC8-42FB-8703-2C6FB284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C4B7EC-3DA7-4DAD-87FC-44373662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836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5080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33240" y="3914640"/>
            <a:ext cx="264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405C7E-ADE1-48E1-8536-87A42C5C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122040"/>
            <a:ext cx="7543800" cy="49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400" y="391464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360" y="3914640"/>
            <a:ext cx="8229600" cy="22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D:%5Cppts%20from%20c%20drive%5Cppt%20collections%5Cleeds%5Ccoffee.ppt" TargetMode="External"/><Relationship Id="rId3" Type="http://schemas.openxmlformats.org/officeDocument/2006/relationships/hyperlink" Target="D:%5Cppts%20from%20c%20drive%5Cppt%20collections%5Cleeds%5CChoices&#8230;.ppt" TargetMode="External"/><Relationship Id="rId4" Type="http://schemas.openxmlformats.org/officeDocument/2006/relationships/hyperlink" Target="D:%5Cppts%20from%20c%20drive%5Cppt%20collections%5COrganising%20your%20studies%5Corganising%20choices.ppt" TargetMode="External"/><Relationship Id="rId5" Type="http://schemas.openxmlformats.org/officeDocument/2006/relationships/hyperlink" Target="Choices&#8230;.ppt" TargetMode="External"/><Relationship Id="rId6" Type="http://schemas.openxmlformats.org/officeDocument/2006/relationships/hyperlink" Target="name%20labels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D:%5Cppts%20from%20c%20drive%5Cppt%20collections%5Cleeds%5CChoices&#8230;.ppt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Choices&#8230;.ppt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30320" indent="-28584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3730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71612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8840" indent="-22860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884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7360" y="6329520"/>
            <a:ext cx="1892160" cy="44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rId2"/>
          </p:cNvPr>
          <p:cNvSpPr/>
          <p:nvPr/>
        </p:nvSpPr>
        <p:spPr>
          <a:xfrm>
            <a:off x="685800" y="609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rId3"/>
          </p:cNvPr>
          <p:cNvSpPr/>
          <p:nvPr/>
        </p:nvSpPr>
        <p:spPr>
          <a:xfrm>
            <a:off x="8001000" y="5715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rId5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rId6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3120" y="1530360"/>
            <a:ext cx="7759440" cy="20448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Rounded MT Bold"/>
              </a:rPr>
              <a:t>Click to edit the title text format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094C-AA68-4214-8922-C7C3C6CBDA64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2041-1CCC-4862-8F28-87E9E6334C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2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 flipH="1">
            <a:off x="7956360" y="152280"/>
            <a:ext cx="6120" cy="11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3399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8a00c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a0c6a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99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101080" y="189000"/>
            <a:ext cx="574560" cy="1080720"/>
            <a:chOff x="8101080" y="189000"/>
            <a:chExt cx="574560" cy="1080720"/>
          </a:xfrm>
        </p:grpSpPr>
        <p:sp>
          <p:nvSpPr>
            <p:cNvPr id="89" name=""/>
            <p:cNvSpPr/>
            <p:nvPr/>
          </p:nvSpPr>
          <p:spPr>
            <a:xfrm>
              <a:off x="810108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2227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1890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10108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2227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5160" y="32940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467200" y="32940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10108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222760" y="469440"/>
              <a:ext cx="86400" cy="9936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516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467200" y="46944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589240" y="46944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01080" y="609120"/>
              <a:ext cx="86400" cy="10008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227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5160" y="609120"/>
              <a:ext cx="86400" cy="10008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67200" y="609120"/>
              <a:ext cx="86400" cy="10008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108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222760" y="749520"/>
              <a:ext cx="86400" cy="100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516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467200" y="749520"/>
              <a:ext cx="86400" cy="1004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240" y="749520"/>
              <a:ext cx="86400" cy="10044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01080" y="889920"/>
              <a:ext cx="86400" cy="9936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227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345160" y="8899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67200" y="8899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0108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22760" y="1030320"/>
              <a:ext cx="86400" cy="9936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4516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467200" y="103032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2276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67200" y="1170360"/>
              <a:ext cx="86400" cy="9936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" descr="">
            <a:hlinkClick r:id="rId2"/>
          </p:cNvPr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6264360" y="6070680"/>
            <a:ext cx="2879640" cy="78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72CD-473C-489C-BE3C-70790B345CC5}" type="datetime3">
              <a:rPr b="0" lang="en-US" sz="10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2E73-E37D-4BC4-B355-1F7E244632AD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493040" y="2992320"/>
            <a:ext cx="1338120" cy="2189160"/>
            <a:chOff x="7493040" y="2992320"/>
            <a:chExt cx="1338120" cy="2189160"/>
          </a:xfrm>
        </p:grpSpPr>
        <p:sp>
          <p:nvSpPr>
            <p:cNvPr id="163" name=""/>
            <p:cNvSpPr/>
            <p:nvPr/>
          </p:nvSpPr>
          <p:spPr>
            <a:xfrm>
              <a:off x="749304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770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61480" y="29923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9304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770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61480" y="327672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45520" y="327672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9304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7080" y="3560760"/>
              <a:ext cx="201600" cy="20160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6148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45520" y="356076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29560" y="356076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93040" y="3843360"/>
              <a:ext cx="201600" cy="203040"/>
            </a:xfrm>
            <a:prstGeom prst="ellipse">
              <a:avLst/>
            </a:prstGeom>
            <a:solidFill>
              <a:srgbClr val="8a0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7770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61480" y="3843360"/>
              <a:ext cx="201600" cy="2030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520" y="3843360"/>
              <a:ext cx="201600" cy="20304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9304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77080" y="4127400"/>
              <a:ext cx="201600" cy="2034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6148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45520" y="4127400"/>
              <a:ext cx="201600" cy="2034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629560" y="4127400"/>
              <a:ext cx="201600" cy="2034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3040" y="4411800"/>
              <a:ext cx="201600" cy="20160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70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61480" y="441180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345520" y="441180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9304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77080" y="4695840"/>
              <a:ext cx="201600" cy="201600"/>
            </a:xfrm>
            <a:prstGeom prst="ellipse">
              <a:avLst/>
            </a:prstGeom>
            <a:solidFill>
              <a:srgbClr val="99cc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06148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45520" y="469584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7708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520" y="4979880"/>
              <a:ext cx="201600" cy="201600"/>
            </a:xfrm>
            <a:prstGeom prst="ellipse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51640" y="1052640"/>
            <a:ext cx="1071720" cy="1655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o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yes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does ‘no’ mean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do you know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can you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me that you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at can you do to show yourself that you  understand?”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-531720">
              <a:lnSpc>
                <a:spcPct val="80000"/>
              </a:lnSpc>
              <a:spcBef>
                <a:spcPts val="1225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 do understand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- but I don’t care”. (attrib. Homer Simpson).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1720" indent="0">
              <a:lnSpc>
                <a:spcPct val="80000"/>
              </a:lnSpc>
              <a:spcBef>
                <a:spcPts val="12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33AA3-C654-4340-9945-8CD02400943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‘</a:t>
            </a:r>
            <a:r>
              <a:rPr b="1" lang="en-GB" sz="3600" spc="-1" strike="noStrike">
                <a:solidFill>
                  <a:srgbClr val="ffff00"/>
                </a:solidFill>
                <a:latin typeface="Arial Rounded MT Bold"/>
              </a:rPr>
              <a:t>Demonstrate your understanding of…’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But how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n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Wher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om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level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Just once, or several time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In just one way, or in several ways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To what standard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137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For what purpose?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omic Sans MS"/>
              </a:rPr>
              <a:t>A most unsatisfactory phrase – an excuse for not being clear with our students!!  Needs to be excised from all syllabus documents.</a:t>
            </a:r>
            <a:endParaRPr b="1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CB128-6E23-463C-A8C3-E8CCC05B9FD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Levels of understanding?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Faith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elief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onvict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Obsession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576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rus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0DA3C-8856-4537-B9FA-F82AB82DB45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“</a:t>
            </a:r>
            <a:r>
              <a:rPr b="1" lang="en-GB" sz="5400" spc="-1" strike="noStrike">
                <a:solidFill>
                  <a:srgbClr val="ffff00"/>
                </a:solidFill>
                <a:latin typeface="Arial Rounded MT Bold"/>
              </a:rPr>
              <a:t>A little learning is a dangerous thing”</a:t>
            </a:r>
            <a:endParaRPr b="1" lang="en-US" sz="5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 no learning is safer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re learning is even more dangerou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nd how about a little understanding of what has been learn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s learning (noun) the same as understanding (noun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400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earning (participle) certainly isn’t the same as understanding (participle)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C800F-625D-4030-9848-F8A73A87E8A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1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Do you understand?’ lecturer ask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(‘Understand what?’ thinks student. ‘What am I supposed to understand?’ ‘What will he/she think of me if I say “no”?’ ‘If I say “yes” will he/she ask me a difficult question to catch me out?’ ‘Why am I being asked this anyway?’ ‘Is it going to be important for me to understand this?’. ‘How will I know when I understand it?’. ‘What will I be able to do when I understand it?’. ‘How will I be able to demonstrate my understanding of it?’. ‘Do I actually have to understand it, or will it be enough simply to demonstrate my understanding of it, by doing something I can do, even when I don’t understand it?’. ‘Does he/she understand it, anyway?’)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-630360">
              <a:lnSpc>
                <a:spcPct val="90000"/>
              </a:lnSpc>
              <a:spcBef>
                <a:spcPts val="1049"/>
              </a:spcBef>
              <a:buClr>
                <a:srgbClr val="cc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mmm’ replies student (as soon as possible after all that thinking).    … continued…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5A4B13-87CD-4E19-AA53-2AAD0D67A55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350000001490116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Rounded MT Bold"/>
              </a:rPr>
              <a:t>The peace which passeth all understanding (2)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don’t understand it then?’ alleg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Well, …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o you understand it well?’ smiles lectur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about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Ah, good’ says lecturer. ‘I made myself clear then?’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Of course’ replies student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303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[Because of things like this, the word is best avoided in intended learning outcomes – and in life in general, except to get people thinking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CE76E-B4E3-4BE7-AD89-B63BEBACAEF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Knight, P and Yorke, M (2003:48) </a:t>
            </a:r>
            <a:r>
              <a:rPr b="1" i="1" lang="en-GB" sz="2600" spc="-1" strike="noStrike">
                <a:solidFill>
                  <a:srgbClr val="330066"/>
                </a:solidFill>
                <a:latin typeface="Arial"/>
              </a:rPr>
              <a:t>Assessment, learning and employability</a:t>
            </a:r>
            <a:r>
              <a:rPr b="1" lang="en-GB" sz="2600" spc="-1" strike="noStrike">
                <a:solidFill>
                  <a:srgbClr val="330066"/>
                </a:solidFill>
                <a:latin typeface="Arial"/>
              </a:rPr>
              <a:t> Maidenhead, UK SRHE/Open University Press.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04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is uncertainty about what counts as understanding. Side-stepping some important philosophical issues, we suggest that a student who understands something is able to apply it appropriately to a fresh situation (demonstration by far transfer) or to evaluate it (demonstration by analysis). Understanding cannot be judged, then, by evaluating the learner’s retention of data or information; rather, assessment tasks would need to have the student apply data or information appropriately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Bowl, M (2003:90) </a:t>
            </a:r>
            <a:r>
              <a:rPr b="1" i="1" lang="en-GB" sz="2000" spc="-1" strike="noStrike">
                <a:solidFill>
                  <a:srgbClr val="330066"/>
                </a:solidFill>
                <a:latin typeface="Arial"/>
              </a:rPr>
              <a:t>Non-traditional entrants to higher education ‘they talk about people like me’</a:t>
            </a:r>
            <a:r>
              <a:rPr b="1" lang="en-GB" sz="2000" spc="-1" strike="noStrike">
                <a:solidFill>
                  <a:srgbClr val="330066"/>
                </a:solidFill>
                <a:latin typeface="Arial"/>
              </a:rPr>
              <a:t> Stoke on Trent, UK, Trentham Books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hardship was not understanding. When they give you an assignment and say it was on this handout. But my difficulty is not understanding what to do at first… I think that there’s a lack of my reading ability, which I can’t blame anyone for. I can only blame myself because I don’t like reading. And if you don’t read, you’re not going to learn certain things. So I suppose that’s to do with me…..it’s reading as well as putting what you read into your essay. You can read it and understand it. I can read and understand it, but then you have to incorporate it into your own words. But in the words they want you to say it in, not just: She said this, and this is the way it should be. The words, the proper language. Maybe it’s because I have difficulty pronouncing certain words. I avoid using them as they’re not familiar to me. When I’m writing, I find that because I’m not familiar with those words, it’s hard to write them… I haven’t really gone into it, because I don’t want them to say, you’re not supposed to be on this course, or anything like that. I’ve come too far now for them to say that, so I don’t like raising the issue. (Helen, brought up in Jama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RM Office System</dc:creator>
  <dc:description/>
  <dc:language>en-US</dc:language>
  <cp:lastModifiedBy>Brown</cp:lastModifiedBy>
  <dcterms:modified xsi:type="dcterms:W3CDTF">2008-03-17T11:14:19Z</dcterms:modified>
  <cp:revision>219</cp:revision>
  <dc:subject/>
  <dc:title>Towards Active Learning</dc:title>
</cp:coreProperties>
</file>