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60" y="391464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540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5080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3324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36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5080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3324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F37F41-B803-4C2E-865E-8B807BFAC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8E5C1B-BFCE-43F5-8BDD-A5849C974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E7B40E-E89B-4EA8-9A80-9BDE7227D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F336AD-C843-480E-9070-A8DC4460F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C00D1A-507E-4CAD-AE9F-79614F6A2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6840" y="122040"/>
            <a:ext cx="7543800" cy="49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8FED40-B160-4B28-B5E3-E741046BB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429BB8-3BA5-419F-93D5-7B915339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540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159348-100D-4065-9736-33325B39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8D0A80-D01C-43AD-B83C-AF22071E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60" y="391464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BCEA2A-0082-4089-B1DD-4994B8737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540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7D5B14-6DC7-4F58-BBC9-4498AB10B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5080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3324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36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5080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3324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9F24DB-7940-4737-89D6-4EA6C4891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6840" y="122040"/>
            <a:ext cx="7543800" cy="49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8540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8360" y="391464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8540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5080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3324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836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5080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3324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BDC994-D8B3-473B-955E-7E9D603B0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F3EB97-1EEA-426E-A728-8BD8C4561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79CA3B-2E26-40DE-AE66-5FA9BA879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54B322-CA1E-4369-8E6F-66FD0E73B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8AB106-694D-4492-A496-F4F6F2FDF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6840" y="122040"/>
            <a:ext cx="7543800" cy="49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897CD7-0E4E-4D57-9F73-083851AA4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40E8EA-C29A-4D96-A5D9-36847070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8540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7B362E-678A-47CF-B1B9-86FC2D7E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7CA8EC-8549-4E54-9338-DC3A9B7C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8360" y="391464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8FF3A1-ED1D-4A25-9A03-C4C793EF8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8540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CDC78A-5FB7-4CE6-A992-25648EB6E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5080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3324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836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5080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3324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84A374-EEEF-449A-AD51-ED2450E15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122040"/>
            <a:ext cx="7543800" cy="49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540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D:%5Cppts%20from%20c%20drive%5Cppt%20collections%5Cleeds%5Ccoffee.ppt" TargetMode="External"/><Relationship Id="rId3" Type="http://schemas.openxmlformats.org/officeDocument/2006/relationships/hyperlink" Target="D:%5Cppts%20from%20c%20drive%5Cppt%20collections%5Cleeds%5CChoices&#8230;.ppt" TargetMode="External"/><Relationship Id="rId4" Type="http://schemas.openxmlformats.org/officeDocument/2006/relationships/hyperlink" Target="D:%5Cppts%20from%20c%20drive%5Cppt%20collections%5COrganising%20your%20studies%5Corganising%20choices.ppt" TargetMode="External"/><Relationship Id="rId5" Type="http://schemas.openxmlformats.org/officeDocument/2006/relationships/hyperlink" Target="Choices&#8230;.ppt" TargetMode="External"/><Relationship Id="rId6" Type="http://schemas.openxmlformats.org/officeDocument/2006/relationships/hyperlink" Target="name%20labels.ppt" TargetMode="External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D:%5Cppts%20from%20c%20drive%5Cppt%20collections%5Cleeds%5CChoices&#8230;.ppt" TargetMode="External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Choices&#8230;.ppt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30360" indent="-63036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1030320" indent="-28584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1373040" indent="-22860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3" marL="1716120" indent="-22860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2058840" indent="-22860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5" marL="2058840" indent="-228600">
              <a:lnSpc>
                <a:spcPct val="90000"/>
              </a:lnSpc>
              <a:spcBef>
                <a:spcPts val="15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6" marL="2058840" indent="-228600">
              <a:lnSpc>
                <a:spcPct val="90000"/>
              </a:lnSpc>
              <a:spcBef>
                <a:spcPts val="15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 Rounded MT Bold"/>
              </a:rPr>
              <a:t>Click to edit the title text format</a:t>
            </a:r>
            <a:endParaRPr b="1" lang="en-US" sz="54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7360" y="6329520"/>
            <a:ext cx="1892160" cy="44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rId2"/>
          </p:cNvPr>
          <p:cNvSpPr/>
          <p:nvPr/>
        </p:nvSpPr>
        <p:spPr>
          <a:xfrm>
            <a:off x="685800" y="6094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8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8"/>
                </a:lnTo>
                <a:lnTo>
                  <a:pt x="20200" y="20208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rId3"/>
          </p:cNvPr>
          <p:cNvSpPr/>
          <p:nvPr/>
        </p:nvSpPr>
        <p:spPr>
          <a:xfrm>
            <a:off x="8001000" y="5715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rId4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rId5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rId6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43120" y="1530360"/>
            <a:ext cx="7759440" cy="20448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 Rounded MT Bold"/>
              </a:rPr>
              <a:t>Click to edit the title text format</a:t>
            </a:r>
            <a:endParaRPr b="1" lang="en-US" sz="54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48D16-C2EF-4E04-BE1B-F61231DCA75B}" type="datetime3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1 July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8C0EC-74D7-4C8E-A3AF-9B3A907C11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2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 flipH="1">
            <a:off x="7956360" y="152280"/>
            <a:ext cx="6120" cy="11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3399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8a00c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a0c6a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99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8101080" y="189000"/>
            <a:ext cx="574560" cy="1080720"/>
            <a:chOff x="8101080" y="189000"/>
            <a:chExt cx="574560" cy="1080720"/>
          </a:xfrm>
        </p:grpSpPr>
        <p:sp>
          <p:nvSpPr>
            <p:cNvPr id="89" name=""/>
            <p:cNvSpPr/>
            <p:nvPr/>
          </p:nvSpPr>
          <p:spPr>
            <a:xfrm>
              <a:off x="8101080" y="189000"/>
              <a:ext cx="86400" cy="9936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222760" y="189000"/>
              <a:ext cx="86400" cy="9936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45160" y="189000"/>
              <a:ext cx="86400" cy="9936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101080" y="329400"/>
              <a:ext cx="86400" cy="9936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222760" y="329400"/>
              <a:ext cx="86400" cy="9936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45160" y="329400"/>
              <a:ext cx="86400" cy="9936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467200" y="329400"/>
              <a:ext cx="86400" cy="9936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101080" y="469440"/>
              <a:ext cx="86400" cy="9936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222760" y="469440"/>
              <a:ext cx="86400" cy="9936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345160" y="469440"/>
              <a:ext cx="86400" cy="9936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467200" y="469440"/>
              <a:ext cx="86400" cy="9936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589240" y="469440"/>
              <a:ext cx="86400" cy="9936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101080" y="609120"/>
              <a:ext cx="86400" cy="10008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222760" y="609120"/>
              <a:ext cx="86400" cy="10008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345160" y="609120"/>
              <a:ext cx="86400" cy="10008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467200" y="609120"/>
              <a:ext cx="86400" cy="10008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1080" y="749520"/>
              <a:ext cx="86400" cy="10044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222760" y="749520"/>
              <a:ext cx="86400" cy="10044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345160" y="749520"/>
              <a:ext cx="86400" cy="10044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467200" y="749520"/>
              <a:ext cx="86400" cy="10044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589240" y="749520"/>
              <a:ext cx="86400" cy="10044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101080" y="889920"/>
              <a:ext cx="86400" cy="9936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222760" y="889920"/>
              <a:ext cx="86400" cy="9936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345160" y="889920"/>
              <a:ext cx="86400" cy="9936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467200" y="889920"/>
              <a:ext cx="86400" cy="9936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101080" y="1030320"/>
              <a:ext cx="86400" cy="9936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222760" y="1030320"/>
              <a:ext cx="86400" cy="9936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345160" y="1030320"/>
              <a:ext cx="86400" cy="9936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467200" y="1030320"/>
              <a:ext cx="86400" cy="9936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222760" y="1170360"/>
              <a:ext cx="86400" cy="9936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467200" y="1170360"/>
              <a:ext cx="86400" cy="9936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0" name="" descr="">
            <a:hlinkClick r:id="rId2"/>
          </p:cNvPr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6264360" y="6070680"/>
            <a:ext cx="2879640" cy="78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dt" idx="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4AA8D-9138-4B54-A17F-729429910705}" type="datetime3">
              <a:rPr b="0" lang="en-US" sz="10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21016-B7DC-4374-B715-6B708BBDAEA6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7493040" y="2992320"/>
            <a:ext cx="1338120" cy="2189160"/>
            <a:chOff x="7493040" y="2992320"/>
            <a:chExt cx="1338120" cy="2189160"/>
          </a:xfrm>
        </p:grpSpPr>
        <p:sp>
          <p:nvSpPr>
            <p:cNvPr id="163" name=""/>
            <p:cNvSpPr/>
            <p:nvPr/>
          </p:nvSpPr>
          <p:spPr>
            <a:xfrm>
              <a:off x="7493040" y="2992320"/>
              <a:ext cx="201600" cy="20160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777080" y="2992320"/>
              <a:ext cx="201600" cy="20160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061480" y="2992320"/>
              <a:ext cx="201600" cy="20160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493040" y="3276720"/>
              <a:ext cx="201600" cy="20160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777080" y="3276720"/>
              <a:ext cx="201600" cy="20160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061480" y="3276720"/>
              <a:ext cx="201600" cy="20160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345520" y="3276720"/>
              <a:ext cx="201600" cy="2016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493040" y="3560760"/>
              <a:ext cx="201600" cy="20160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777080" y="3560760"/>
              <a:ext cx="201600" cy="20160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61480" y="3560760"/>
              <a:ext cx="201600" cy="2016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345520" y="3560760"/>
              <a:ext cx="201600" cy="2016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629560" y="3560760"/>
              <a:ext cx="201600" cy="20160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493040" y="3843360"/>
              <a:ext cx="201600" cy="20304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777080" y="3843360"/>
              <a:ext cx="201600" cy="20304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061480" y="3843360"/>
              <a:ext cx="201600" cy="20304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345520" y="3843360"/>
              <a:ext cx="201600" cy="20304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493040" y="4127400"/>
              <a:ext cx="201600" cy="2034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777080" y="4127400"/>
              <a:ext cx="201600" cy="2034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061480" y="4127400"/>
              <a:ext cx="201600" cy="20340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345520" y="4127400"/>
              <a:ext cx="201600" cy="20340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629560" y="4127400"/>
              <a:ext cx="201600" cy="20340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493040" y="4411800"/>
              <a:ext cx="201600" cy="2016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777080" y="4411800"/>
              <a:ext cx="201600" cy="20160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061480" y="4411800"/>
              <a:ext cx="201600" cy="20160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345520" y="4411800"/>
              <a:ext cx="201600" cy="20160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493040" y="4695840"/>
              <a:ext cx="201600" cy="20160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77080" y="4695840"/>
              <a:ext cx="201600" cy="20160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061480" y="4695840"/>
              <a:ext cx="201600" cy="20160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345520" y="4695840"/>
              <a:ext cx="201600" cy="20160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777080" y="4979880"/>
              <a:ext cx="201600" cy="20160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345520" y="4979880"/>
              <a:ext cx="201600" cy="20160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7451640" y="1052640"/>
            <a:ext cx="1071720" cy="165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Arial Rounded MT Bold"/>
              </a:rPr>
              <a:t>Understanding?</a:t>
            </a:r>
            <a:endParaRPr b="1" lang="en-US" sz="54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1720" indent="-531720">
              <a:lnSpc>
                <a:spcPct val="80000"/>
              </a:lnSpc>
              <a:spcBef>
                <a:spcPts val="1225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Do you understand?”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-531720">
              <a:lnSpc>
                <a:spcPct val="80000"/>
              </a:lnSpc>
              <a:spcBef>
                <a:spcPts val="1225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hat does ‘yes’ mean?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-531720">
              <a:lnSpc>
                <a:spcPct val="80000"/>
              </a:lnSpc>
              <a:spcBef>
                <a:spcPts val="1225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hat does ‘no’ mean?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-531720">
              <a:lnSpc>
                <a:spcPct val="80000"/>
              </a:lnSpc>
              <a:spcBef>
                <a:spcPts val="1225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How do you know you understand?”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-531720">
              <a:lnSpc>
                <a:spcPct val="80000"/>
              </a:lnSpc>
              <a:spcBef>
                <a:spcPts val="1225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How can you show me that you understand?”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-531720">
              <a:lnSpc>
                <a:spcPct val="80000"/>
              </a:lnSpc>
              <a:spcBef>
                <a:spcPts val="1225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hat can you do to show me that you understand?”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-531720">
              <a:lnSpc>
                <a:spcPct val="80000"/>
              </a:lnSpc>
              <a:spcBef>
                <a:spcPts val="1225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hat can you do to show yourself that you  understand?”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-531720">
              <a:lnSpc>
                <a:spcPct val="80000"/>
              </a:lnSpc>
              <a:spcBef>
                <a:spcPts val="1225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 do understand…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0">
              <a:lnSpc>
                <a:spcPct val="8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- but I don’t care”. (attrib. Homer Simpson).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0">
              <a:lnSpc>
                <a:spcPct val="80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520269-6D02-41D8-9F8D-F04C56DC04C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 Rounded MT Bold"/>
              </a:rPr>
              <a:t>‘</a:t>
            </a:r>
            <a:r>
              <a:rPr b="1" lang="en-GB" sz="3600" spc="-1" strike="noStrike">
                <a:solidFill>
                  <a:srgbClr val="ffff00"/>
                </a:solidFill>
                <a:latin typeface="Arial Rounded MT Bold"/>
              </a:rPr>
              <a:t>Demonstrate your understanding of…’</a:t>
            </a:r>
            <a:endParaRPr b="1" lang="en-US" sz="36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But how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When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Where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To whom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To what level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Just once, or several times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In just one way, or in several ways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To what standard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For what purpose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0">
              <a:lnSpc>
                <a:spcPct val="90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A most unsatisfactory phrase – an excuse for not being clear with our students!!  Needs to be excised from all syllabus documents.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31F8A0-C741-411F-AC88-ED2C9CF5EA3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Arial Rounded MT Bold"/>
              </a:rPr>
              <a:t>Levels of understanding?</a:t>
            </a:r>
            <a:endParaRPr b="1" lang="en-US" sz="54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30360" indent="-63036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Faith?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Belief?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Conviction?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Obsession?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Trust?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D785AF-9757-4883-A455-5103404317D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Arial Rounded MT Bold"/>
              </a:rPr>
              <a:t>“</a:t>
            </a:r>
            <a:r>
              <a:rPr b="1" lang="en-GB" sz="5400" spc="-1" strike="noStrike">
                <a:solidFill>
                  <a:srgbClr val="ffff00"/>
                </a:solidFill>
                <a:latin typeface="Arial Rounded MT Bold"/>
              </a:rPr>
              <a:t>A little learning is a dangerous thing”</a:t>
            </a:r>
            <a:endParaRPr b="1" lang="en-US" sz="54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30360" indent="-630360">
              <a:lnSpc>
                <a:spcPct val="90000"/>
              </a:lnSpc>
              <a:spcBef>
                <a:spcPts val="1400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o no learning is safer?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400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ore learning is even more dangerous?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400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nd how about a little understanding of what has been learned?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400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Is learning (noun) the same as understanding (noun)?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400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Learning (participle) certainly isn’t the same as understanding (participle)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8C4C00-A8E0-4E7F-89E7-8F1B5BA5D30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 Rounded MT Bold"/>
              </a:rPr>
              <a:t>The peace which passeth all understanding (1)</a:t>
            </a: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30360" indent="-630360">
              <a:lnSpc>
                <a:spcPct val="90000"/>
              </a:lnSpc>
              <a:spcBef>
                <a:spcPts val="1049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Do you understand?’ lecturer asks student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049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(‘Understand what?’ thinks student. ‘What am I supposed to understand?’ ‘What will he/she think of me if I say “no”?’ ‘If I say “yes” will he/she ask me a difficult question to catch me out?’ ‘Why am I being asked this anyway?’ ‘Is it going to be important for me to understand this?’. ‘How will I know when I understand it?’. ‘What will I be able to do when I understand it?’. ‘How will I be able to demonstrate my understanding of it?’. ‘Do I actually have to understand it, or will it be enough simply to demonstrate my understanding of it, by doing something I can do, even when I don’t understand it?’. ‘Does he/she understand it, anyway?’)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049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mmm’ replies student (as soon as possible after all that thinking).    … continued…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2787B4-498D-4CC0-BC42-837CAD7FCA6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350000001490116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350000001490116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350000001490116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 Rounded MT Bold"/>
              </a:rPr>
              <a:t>The peace which passeth all understanding (2)</a:t>
            </a: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30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o you don’t understand it then?’ alleges lecturer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Well, …’ replies student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o you understand it well?’ smiles lecturer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Just about’ replies student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Ah, good’ says lecturer. ‘I made myself clear then?’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Of course’ replies student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[Because of things like this, the word is best avoided in intended learning outcomes – and in life in general, except to get people thinking]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4BFD4C-7EAA-4F76-9A89-7653180488C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0066"/>
                </a:solidFill>
                <a:latin typeface="Arial"/>
              </a:rPr>
              <a:t>Knight, P and Yorke, M (2003:48) </a:t>
            </a:r>
            <a:r>
              <a:rPr b="1" i="1" lang="en-GB" sz="2600" spc="-1" strike="noStrike">
                <a:solidFill>
                  <a:srgbClr val="330066"/>
                </a:solidFill>
                <a:latin typeface="Arial"/>
              </a:rPr>
              <a:t>Assessment, learning and employability</a:t>
            </a:r>
            <a:r>
              <a:rPr b="1" lang="en-GB" sz="2600" spc="-1" strike="noStrike">
                <a:solidFill>
                  <a:srgbClr val="330066"/>
                </a:solidFill>
                <a:latin typeface="Arial"/>
              </a:rPr>
              <a:t> Maidenhead, UK SRHE/Open University Press.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is uncertainty about what counts as understanding. Side-stepping some important philosophical issues, we suggest that a student who understands something is able to apply it appropriately to a fresh situation (demonstration by far transfer) or to evaluate it (demonstration by analysis). Understanding cannot be judged, then, by evaluating the learner’s retention of data or information; rather, assessment tasks would need to have the student apply data or information appropriately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0066"/>
                </a:solidFill>
                <a:latin typeface="Arial"/>
              </a:rPr>
              <a:t>Bowl, M (2003:90) </a:t>
            </a:r>
            <a:r>
              <a:rPr b="1" i="1" lang="en-GB" sz="2000" spc="-1" strike="noStrike">
                <a:solidFill>
                  <a:srgbClr val="330066"/>
                </a:solidFill>
                <a:latin typeface="Arial"/>
              </a:rPr>
              <a:t>Non-traditional entrants to higher education ‘they talk about people like me’</a:t>
            </a:r>
            <a:r>
              <a:rPr b="1" lang="en-GB" sz="2000" spc="-1" strike="noStrike">
                <a:solidFill>
                  <a:srgbClr val="330066"/>
                </a:solidFill>
                <a:latin typeface="Arial"/>
              </a:rPr>
              <a:t> Stoke on Trent, UK, Trentham Books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hardship was not understanding. When they give you an assignment and say it was on this handout. But my difficulty is not understanding what to do at first… I think that there’s a lack of my reading ability, which I can’t blame anyone for. I can only blame myself because I don’t like reading. And if you don’t read, you’re not going to learn certain things. So I suppose that’s to do with me…..it’s reading as well as putting what you read into your essay. You can read it and understand it. I can read and understand it, but then you have to incorporate it into your own words. But in the words they want you to say it in, not just: She said this, and this is the way it should be. The words, the proper language. Maybe it’s because I have difficulty pronouncing certain words. I avoid using them as they’re not familiar to me. When I’m writing, I find that because I’m not familiar with those words, it’s hard to write them… I haven’t really gone into it, because I don’t want them to say, you’re not supposed to be on this course, or anything like that. I’ve come too far now for them to say that, so I don’t like raising the issue. (Helen, brought up in Jamaic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RM Office System</dc:creator>
  <dc:description/>
  <dc:language>en-US</dc:language>
  <cp:lastModifiedBy>Brown</cp:lastModifiedBy>
  <dcterms:modified xsi:type="dcterms:W3CDTF">2008-03-17T11:14:19Z</dcterms:modified>
  <cp:revision>219</cp:revision>
  <dc:subject/>
  <dc:title>Towards Active Learning</dc:title>
</cp:coreProperties>
</file>