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ONATA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278-0B87-467D-BE81-95335C4A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B3A-73D9-43B9-9B34-FFA5DC6F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146-B7B2-486B-BE70-DFF976FA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68C-1FD2-4128-8BAF-703ECAEC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ACA-F74A-4F3E-976C-5C9E37F8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9A8-BD78-4101-9D9E-CF0D9AE1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74E-673E-4C25-9DE5-5B13C0D8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C04E-A25D-4708-BFB2-7F954E99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2F6-CD76-4AA8-9526-19F886BB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E16-404F-489D-911E-CC61848B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AA6-E52C-413E-8E84-80E98054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CB4-FD5D-4072-B8DB-0757BB76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A431-72AE-49BD-8E07-989E691C2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ATA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62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ticularly useful stress management tech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914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yourself near a strea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383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rds are singing in the crisp, cool, mountain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08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809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othing sound of a gentle waterfall fills the air with a cascade of sere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4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6840" y="51055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is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67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easily make out the face of the person whose head you're ho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the wat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2193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now. Don’t you feel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f you liked that, you can download it from my web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phil-race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114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/>
          </p:cNvPr>
          <p:cNvSpPr/>
          <p:nvPr/>
        </p:nvSpPr>
        <p:spPr>
          <a:xfrm>
            <a:off x="2895480" y="6019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601"/>
                            </p:stCondLst>
                            <p:childTnLst>
                              <p:par>
                                <p:cTn id="49" nodeType="afterEffect" fill="hold" presetClass="exit" presetID="3" presetSubtype="10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21:27:11Z</dcterms:created>
  <dc:creator>Reg Gareau</dc:creator>
  <dc:description/>
  <dc:language>en-US</dc:language>
  <cp:lastModifiedBy>Brown</cp:lastModifiedBy>
  <dcterms:modified xsi:type="dcterms:W3CDTF">2008-09-09T09:53:38Z</dcterms:modified>
  <cp:revision>12</cp:revision>
  <dc:subject/>
  <dc:title>No Slide Title</dc:title>
</cp:coreProperties>
</file>