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SONATA8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9050-265F-469B-B8FA-272D1CA19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C527-49C3-4C6E-BD98-B8AAF5E08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5B74-398F-4C89-BC3E-B226AA23E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FAFE-369B-4E90-9F2D-7ED2EC28F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FB99-A7F1-4F8F-B85E-F82EFA6D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A612-EE4E-4A81-96C9-37F6A6B9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5569-F3BE-490F-9421-F16506C6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ACBD-2B11-45B4-83C6-AA82C65D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1873-E3A8-48E0-9660-83412D97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423D-131B-425C-95AE-981CD53A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2689-C1B6-4E08-A823-40F86921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925F-43A5-4296-9DB2-9921CA51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36B2-66FF-40CE-9E08-60438827B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NATA8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tmp/home/.config/libreoffice/4/user/gallery/clap.wav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56272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particularly useful stress management techni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9144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icture yourself near a stream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163836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rds are singing in the crisp, cool, mountain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236232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one knows this secret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08628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one knows this secret pl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38098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oothing sound of a gentle waterfall fills the air with a cascade of seren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8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4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36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3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6840" y="510552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water is cl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56707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can easily make out the face of the person whose head you're hol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der the water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3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1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3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320" y="1219320"/>
            <a:ext cx="9067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now. Don’t you feel bett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If you liked that, you can download it from my webs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.phil-race.co.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7080" y="4114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"/>
          </p:cNvPr>
          <p:cNvSpPr/>
          <p:nvPr/>
        </p:nvSpPr>
        <p:spPr>
          <a:xfrm>
            <a:off x="2895480" y="60199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601"/>
                            </p:stCondLst>
                            <p:childTnLst>
                              <p:par>
                                <p:cTn id="49" nodeType="afterEffect" fill="hold" presetClass="exit" presetID="3" presetSubtype="10">
                                  <p:stCondLst>
                                    <p:cond delay="35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3T21:27:11Z</dcterms:created>
  <dc:creator>Reg Gareau</dc:creator>
  <dc:description/>
  <dc:language>en-US</dc:language>
  <cp:lastModifiedBy>Brown</cp:lastModifiedBy>
  <dcterms:modified xsi:type="dcterms:W3CDTF">2008-09-09T09:53:38Z</dcterms:modified>
  <cp:revision>12</cp:revision>
  <dc:subject/>
  <dc:title>No Slide Title</dc:title>
</cp:coreProperties>
</file>