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SONATA8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5ED4-6D16-429D-BB8A-36EC6C7A4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9C5C-6700-496A-BB64-D5F18BFFD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E67D-8627-4DCD-92F3-5601EA8FC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128A-5BFB-4AF6-B873-5B82AF1B5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6DD8-1A23-433D-899C-D469C7AEF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0087-7789-41BC-82CE-703A881D2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50EF-442A-4497-B719-915BD09E7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CD80-B93E-4205-9111-29A71C120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CB03-B8D8-4DDD-886C-09F64B6AD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9124-763B-4CC5-A834-99805FE37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2E9A-6502-41CD-8CC0-D64B26D1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74BE-CDBD-4DF2-8AB3-D5B2439A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16E5E-7930-4166-83A9-0EBFAA8FA8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ONATA8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clap.wav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562720"/>
            <a:ext cx="90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particularly useful stress management techni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80880" y="9144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icture yourself near a stream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163836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rds are singing in the crisp, cool, mountain a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2362320"/>
            <a:ext cx="572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one knows this secret pl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3086280"/>
            <a:ext cx="572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one knows this secret pl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380988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soothing sound of a gentle waterfall fills the air with a cascade of seren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3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8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3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74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3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3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36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3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6840" y="510552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water is cle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567072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can easily make out the face of the person whose head you're hol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der the water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3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3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6320" y="1219320"/>
            <a:ext cx="9067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re now. Don’t you feel bett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If you liked that, you can download it from my websi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ww.phil-race.co.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67080" y="41148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2"/>
          </p:cNvPr>
          <p:cNvSpPr/>
          <p:nvPr/>
        </p:nvSpPr>
        <p:spPr>
          <a:xfrm>
            <a:off x="2895480" y="60199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601"/>
                            </p:stCondLst>
                            <p:childTnLst>
                              <p:par>
                                <p:cTn id="49" nodeType="afterEffect" fill="hold" presetClass="exit" presetID="3" presetSubtype="10">
                                  <p:stCondLst>
                                    <p:cond delay="350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5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3T21:27:11Z</dcterms:created>
  <dc:creator>Reg Gareau</dc:creator>
  <dc:description/>
  <dc:language>en-US</dc:language>
  <cp:lastModifiedBy>Brown</cp:lastModifiedBy>
  <dcterms:modified xsi:type="dcterms:W3CDTF">2008-09-09T09:53:38Z</dcterms:modified>
  <cp:revision>12</cp:revision>
  <dc:subject/>
  <dc:title>No Slide Title</dc:title>
</cp:coreProperties>
</file>