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SONATA8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E56B-EF06-409E-AF6B-8BE03F3EF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BEE1-BD7C-4EF7-9520-86CCA3AD0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A204-D4FF-4866-9821-A3A68C0E5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65C9-9463-4CA0-9E8F-E872D55C5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F64A-D35D-48B2-9F99-C85FADB9F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685C-BD5F-443B-8BC8-0F070ECAE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98A5-11D5-44C8-9CD9-7594137B9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D5E8-417D-4AA1-91D2-36EFC35ED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015F-716F-4303-8E6A-6BB6C036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0FF9-F90B-4DB0-B77B-E497CADB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2D19-8314-4670-8086-80D28B92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6B0C-78EE-40EC-A6A3-801396CC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7742E-1609-47AC-919F-1055E89D3E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ONATA8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clap.wav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562720"/>
            <a:ext cx="90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particularly useful stress management techni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0880" y="9144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icture yourself near a stream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163836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rds are singing in the crisp, cool, mountain 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2362320"/>
            <a:ext cx="57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one knows this secret pl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3086280"/>
            <a:ext cx="57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one knows this secret pl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38098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oothing sound of a gentle waterfall fills the air with a cascade of seren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8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3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74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3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3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36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3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6840" y="510552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water is cl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56707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can easily make out the face of the person whose head you're hol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der the water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3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3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6320" y="1219320"/>
            <a:ext cx="9067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e now. Don’t you feel bett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If you liked that, you can download it from my websi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ww.phil-race.co.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7080" y="41148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2"/>
          </p:cNvPr>
          <p:cNvSpPr/>
          <p:nvPr/>
        </p:nvSpPr>
        <p:spPr>
          <a:xfrm>
            <a:off x="2895480" y="60199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601"/>
                            </p:stCondLst>
                            <p:childTnLst>
                              <p:par>
                                <p:cTn id="49" nodeType="afterEffect" fill="hold" presetClass="exit" presetID="3" presetSubtype="10">
                                  <p:stCondLst>
                                    <p:cond delay="350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5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3T21:27:11Z</dcterms:created>
  <dc:creator>Reg Gareau</dc:creator>
  <dc:description/>
  <dc:language>en-US</dc:language>
  <cp:lastModifiedBy>Brown</cp:lastModifiedBy>
  <dcterms:modified xsi:type="dcterms:W3CDTF">2008-09-09T09:53:38Z</dcterms:modified>
  <cp:revision>12</cp:revision>
  <dc:subject/>
  <dc:title>No Slide Title</dc:title>
</cp:coreProperties>
</file>