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SONATA8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0B35-D978-4066-8FD0-27ECBADBE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EF86-D8ED-4DAD-B64F-970CAA1AE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57CA-5FB4-4D8F-9DF4-7DCB3A808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5388-05CD-4D10-8D4B-5AB27AA98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E3AC-30F0-433D-A8BE-C1235D883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B713-43C8-4E3D-BE87-45ADF8175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2186-7CF7-4E89-B4D4-CD0C54DD3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0DD7-9786-4746-AD89-51E6CF871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5AB6-AD97-409A-B054-3E32B8864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72E4-6183-4651-8A7C-E3F24FA4C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B065-6C13-47DF-AF2B-F2AE6F196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3966-569A-49DA-AD67-1125B553C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131BC-F5AB-4C32-A579-0386063BF6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SONATA8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tmp/home/.config/libreoffice/4/user/gallery/clap.wav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562720"/>
            <a:ext cx="90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particularly useful stress management techniqu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80880" y="91440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icture yourself near a stream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163836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irds are singing in the crisp, cool, mountain ai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2362320"/>
            <a:ext cx="572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one knows this secret pla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3086280"/>
            <a:ext cx="572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one knows this secret pla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380988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soothing sound of a gentle waterfall fills the air with a cascade of seren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3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8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3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74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3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5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3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3600"/>
                            </p:stCondLst>
                            <p:childTnLst>
                              <p:par>
                                <p:cTn id="28" nodeType="afterEffect" fill="hold" presetClass="entr" presetID="9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3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6840" y="5105520"/>
            <a:ext cx="374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water is cle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567072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 can easily make out the face of the person whose head you're hold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der the water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3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500"/>
                            </p:stCondLst>
                            <p:childTnLst>
                              <p:par>
                                <p:cTn id="39" nodeType="afterEffect" fill="hold" presetClass="entr" presetID="9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3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6320" y="1219320"/>
            <a:ext cx="90676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re now. Don’t you feel bett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If you liked that, you can download it from my websi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ww.phil-race.co.u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267080" y="411480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8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8" y="20200"/>
                </a:lnTo>
                <a:lnTo>
                  <a:pt x="20208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8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2"/>
          </p:cNvPr>
          <p:cNvSpPr/>
          <p:nvPr/>
        </p:nvSpPr>
        <p:spPr>
          <a:xfrm>
            <a:off x="2895480" y="60199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8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8" y="20200"/>
                </a:lnTo>
                <a:lnTo>
                  <a:pt x="20208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8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4601"/>
                            </p:stCondLst>
                            <p:childTnLst>
                              <p:par>
                                <p:cTn id="49" nodeType="afterEffect" fill="hold" presetClass="exit" presetID="3" presetSubtype="10">
                                  <p:stCondLst>
                                    <p:cond delay="350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blinds(horizontal)" transition="out">
                                      <p:cBhvr additive="repl">
                                        <p:cTn id="5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3T21:27:11Z</dcterms:created>
  <dc:creator>Reg Gareau</dc:creator>
  <dc:description/>
  <dc:language>en-US</dc:language>
  <cp:lastModifiedBy>Brown</cp:lastModifiedBy>
  <dcterms:modified xsi:type="dcterms:W3CDTF">2008-09-09T09:53:38Z</dcterms:modified>
  <cp:revision>12</cp:revision>
  <dc:subject/>
  <dc:title>No Slide Title</dc:title>
</cp:coreProperties>
</file>