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ONATA8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D643-F55F-439D-9984-B88B50A5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2E2-BF01-4515-ADDD-9C6326F8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A64F-632D-4D5F-9E23-59774BDD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6CF8-51E7-414D-9181-4189B039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8FD-FAC8-4D3F-9DA7-C3345515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CA9A-EB59-459E-BCA0-8C6D4965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A77-889C-4B5D-BB38-144676CF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879-018B-4999-8D33-A2563025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633-29F5-40BC-B9F0-1E012A4A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093E-5610-4DCF-807E-48B06827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DEE-CB07-4086-91BD-C5F50618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A85C-2731-4C6C-8E18-BDD8E9DC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5A45-FF97-48B8-B306-D8FFB2D0F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NATA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ap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5627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rticularly useful stress management techn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914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cture yourself near a strea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383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rds are singing in the crisp, cool, mountain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3623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08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809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oothing sound of a gentle waterfall fills the air with a cascade of sere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8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4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36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6840" y="51055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ater is cl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670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easily make out the face of the person whose head you're ho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 the wat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219320"/>
            <a:ext cx="9067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now. Don’t you feel be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If you liked that, you can download it from my web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phil-race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4114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/>
          </p:cNvPr>
          <p:cNvSpPr/>
          <p:nvPr/>
        </p:nvSpPr>
        <p:spPr>
          <a:xfrm>
            <a:off x="2895480" y="6019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601"/>
                            </p:stCondLst>
                            <p:childTnLst>
                              <p:par>
                                <p:cTn id="49" nodeType="afterEffect" fill="hold" presetClass="exit" presetID="3" presetSubtype="10">
                                  <p:stCondLst>
                                    <p:cond delay="3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21:27:11Z</dcterms:created>
  <dc:creator>Reg Gareau</dc:creator>
  <dc:description/>
  <dc:language>en-US</dc:language>
  <cp:lastModifiedBy>Brown</cp:lastModifiedBy>
  <dcterms:modified xsi:type="dcterms:W3CDTF">2008-09-09T09:53:38Z</dcterms:modified>
  <cp:revision>12</cp:revision>
  <dc:subject/>
  <dc:title>No Slide Title</dc:title>
</cp:coreProperties>
</file>