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SONATA8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7FF7-08C8-44D4-97FC-97EC2806A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7B38-99A6-41D0-8518-52F69EA0E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A678-5157-4CFB-BDC7-9D7EF16AC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AEB9-217E-4DE2-B432-EE23913AF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3B93-F828-4726-BEAE-A7210B04B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96FA-A9C1-4E95-A382-952F309C3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5D5B-B197-4914-AFBD-CAC23BF78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3BE5-BBAC-4511-9BE2-F3F7CC6C0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B5D9-F122-44B4-A661-8A9A662B4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A81E-CFB2-4C13-9062-C7426B32A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48D2-C621-4178-9245-C462A1E51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7375-52F4-4150-8805-CC2596475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9096A-D982-42D6-BD56-4E53F73354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ONATA8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clap.wav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562720"/>
            <a:ext cx="90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particularly useful stress management techni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80880" y="9144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icture yourself near a stream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163836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rds are singing in the crisp, cool, mountain a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2362320"/>
            <a:ext cx="572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one knows this secret pl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3086280"/>
            <a:ext cx="572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one knows this secret pl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380988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soothing sound of a gentle waterfall fills the air with a cascade of seren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3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8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3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74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3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3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36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3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6840" y="510552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water is cle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567072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can easily make out the face of the person whose head you're hol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der the water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3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3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6320" y="1219320"/>
            <a:ext cx="9067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re now. Don’t you feel bett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If you liked that, you can download it from my websi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ww.phil-race.co.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67080" y="41148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2"/>
          </p:cNvPr>
          <p:cNvSpPr/>
          <p:nvPr/>
        </p:nvSpPr>
        <p:spPr>
          <a:xfrm>
            <a:off x="2895480" y="60199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601"/>
                            </p:stCondLst>
                            <p:childTnLst>
                              <p:par>
                                <p:cTn id="49" nodeType="afterEffect" fill="hold" presetClass="exit" presetID="3" presetSubtype="10">
                                  <p:stCondLst>
                                    <p:cond delay="350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5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3T21:27:11Z</dcterms:created>
  <dc:creator>Reg Gareau</dc:creator>
  <dc:description/>
  <dc:language>en-US</dc:language>
  <cp:lastModifiedBy>Brown</cp:lastModifiedBy>
  <dcterms:modified xsi:type="dcterms:W3CDTF">2008-09-09T09:53:38Z</dcterms:modified>
  <cp:revision>12</cp:revision>
  <dc:subject/>
  <dc:title>No Slide Title</dc:title>
</cp:coreProperties>
</file>