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SONATA8.WAV" ContentType="audio/x-wav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76460-A5CE-4B26-840F-D0CEB59EC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2A389-6D69-4C88-A8F1-71FB164D4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FCD3B-B817-441C-BC02-93887A4E2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A4C55-B010-4CFC-8676-952716ABB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3F90A-AAA6-4C3A-B411-B8208F098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1937E-31A1-4829-AEDF-DBF9B6B28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8F77F-5E44-4F8E-94A5-BFDBD2466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7E3E4-5ED1-4271-9E43-88C2B49A0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C3349-D669-48BC-B90A-963B153D9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01201-8E1A-4622-A8BC-DAE1794F5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CC57F-0A46-469E-8C44-7579AAF7D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B3027-7602-4A9E-ADEF-2519E3A84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743C3-3FA2-4E92-9783-0099CD9C02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SONATA8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tmp/home/.config/libreoffice/4/user/gallery/clap.wav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562720"/>
            <a:ext cx="906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 particularly useful stress management techniqu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80880" y="91440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icture yourself near a stream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80880" y="1638360"/>
            <a:ext cx="838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irds are singing in the crisp, cool, mountain ai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2362320"/>
            <a:ext cx="572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one knows this secret pla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80880" y="3086280"/>
            <a:ext cx="572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one knows this secret pla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04920" y="3809880"/>
            <a:ext cx="761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soothing sound of a gentle waterfall fills the air with a cascade of sereni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9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3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28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3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74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3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0500"/>
                            </p:stCondLst>
                            <p:childTnLst>
                              <p:par>
                                <p:cTn id="24" nodeType="afterEffect" fill="hold" presetClass="entr" presetID="9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3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3600"/>
                            </p:stCondLst>
                            <p:childTnLst>
                              <p:par>
                                <p:cTn id="28" nodeType="afterEffect" fill="hold" presetClass="entr" presetID="9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3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6840" y="5105520"/>
            <a:ext cx="374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water is cle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567072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ou can easily make out the face of the person whose head you're hold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der the water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9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3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2500"/>
                            </p:stCondLst>
                            <p:childTnLst>
                              <p:par>
                                <p:cTn id="39" nodeType="afterEffect" fill="hold" presetClass="entr" presetID="9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3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6320" y="1219320"/>
            <a:ext cx="90676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re now. Don’t you feel bette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If you liked that, you can download it from my websi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ww.phil-race.co.u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267080" y="411480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8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8" y="20200"/>
                </a:lnTo>
                <a:lnTo>
                  <a:pt x="20208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8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>
            <a:hlinkClick r:id="rId2"/>
          </p:cNvPr>
          <p:cNvSpPr/>
          <p:nvPr/>
        </p:nvSpPr>
        <p:spPr>
          <a:xfrm>
            <a:off x="2895480" y="601992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8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8" y="20200"/>
                </a:lnTo>
                <a:lnTo>
                  <a:pt x="20208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8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199999988079071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4601"/>
                            </p:stCondLst>
                            <p:childTnLst>
                              <p:par>
                                <p:cTn id="49" nodeType="afterEffect" fill="hold" presetClass="exit" presetID="3" presetSubtype="10">
                                  <p:stCondLst>
                                    <p:cond delay="350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animEffect filter="blinds(horizontal)" transition="out">
                                      <p:cBhvr additive="repl">
                                        <p:cTn id="5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13T21:27:11Z</dcterms:created>
  <dc:creator>Reg Gareau</dc:creator>
  <dc:description/>
  <dc:language>en-US</dc:language>
  <cp:lastModifiedBy>Brown</cp:lastModifiedBy>
  <dcterms:modified xsi:type="dcterms:W3CDTF">2008-09-09T09:53:38Z</dcterms:modified>
  <cp:revision>12</cp:revision>
  <dc:subject/>
  <dc:title>No Slide Title</dc:title>
</cp:coreProperties>
</file>