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SONATA8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A10F-24E2-4F63-9700-3EE59716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0AC9-6D55-426A-B3B2-B63763D0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B479-FFCC-4B43-8B0A-BBF63E4EE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9E37-287D-4E7F-A06E-EEF7DFB1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6675-5FF8-4974-A67D-42E7A558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9371-C667-407E-BD39-4E50BAC0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25E8-C4A8-4E0C-B6AD-FDAFCD34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0586-BA0C-4BF4-8D6C-BFE9287D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C97E-26B6-42D2-B86F-D2B9CD64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1AA3-D439-419B-9F80-D5154061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CDF9-F52C-4C7A-88F0-154A4673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AF9D-FF0A-4B37-A630-DD24836C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7E56-5C19-4EA2-94FE-405CC8024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NATA8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lap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56272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articularly useful stress management techn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9144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icture yourself near a strea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6383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rds are singing in the crisp, cool, mountain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36232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one knows this secret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08628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one knows this secret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8098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oothing sound of a gentle waterfall fills the air with a cascade of sere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8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4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36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6840" y="51055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water is cl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6707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easily make out the face of the person whose head you're ho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 the wate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320" y="1219320"/>
            <a:ext cx="9067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now. Don’t you feel bet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If you liked that, you can download it from my webs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phil-race.co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4114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"/>
          </p:cNvPr>
          <p:cNvSpPr/>
          <p:nvPr/>
        </p:nvSpPr>
        <p:spPr>
          <a:xfrm>
            <a:off x="2895480" y="6019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601"/>
                            </p:stCondLst>
                            <p:childTnLst>
                              <p:par>
                                <p:cTn id="49" nodeType="afterEffect" fill="hold" presetClass="exit" presetID="3" presetSubtype="10">
                                  <p:stCondLst>
                                    <p:cond delay="35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21:27:11Z</dcterms:created>
  <dc:creator>Reg Gareau</dc:creator>
  <dc:description/>
  <dc:language>en-US</dc:language>
  <cp:lastModifiedBy>Brown</cp:lastModifiedBy>
  <dcterms:modified xsi:type="dcterms:W3CDTF">2008-09-09T09:53:38Z</dcterms:modified>
  <cp:revision>12</cp:revision>
  <dc:subject/>
  <dc:title>No Slide Title</dc:title>
</cp:coreProperties>
</file>