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SONATA8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A016-3B47-4C33-9A63-29B102759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8389-4032-4567-A483-91AD9674C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354C-18DE-4B35-816E-A2D3A11B3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F05E-03B9-4EC5-86FE-A9F4C3DDD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1E89-3BC4-4677-A9D5-0C1E18737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5525-ACC7-46E9-A9B6-F061B47BB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9A77-0BD1-424F-AD06-54E549294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5224-2D56-4E96-B684-099C65194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7037-7809-4095-A56A-1277F4E6F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3724-427D-441D-9ED0-BFCE6BE8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2A42-1D3E-442F-A2C0-2281FAB3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B13C-48E3-456E-A985-AF81D7F5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50E5F-3D22-44C8-9616-8BF2BFA10D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ONATA8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clap.wav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562720"/>
            <a:ext cx="90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particularly useful stress management techni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0880" y="9144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icture yourself near a stream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63836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rds are singing in the crisp, cool, mountain 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2362320"/>
            <a:ext cx="57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one knows this secret pl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3086280"/>
            <a:ext cx="57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one knows this secret pl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38098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oothing sound of a gentle waterfall fills the air with a cascade of seren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8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3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74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3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3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36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3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6840" y="510552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water is cl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56707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can easily make out the face of the person whose head you're hol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der the water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3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6320" y="1219320"/>
            <a:ext cx="9067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e now. Don’t you feel bett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If you liked that, you can download it from my websi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ww.phil-race.co.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7080" y="41148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2"/>
          </p:cNvPr>
          <p:cNvSpPr/>
          <p:nvPr/>
        </p:nvSpPr>
        <p:spPr>
          <a:xfrm>
            <a:off x="2895480" y="60199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601"/>
                            </p:stCondLst>
                            <p:childTnLst>
                              <p:par>
                                <p:cTn id="49" nodeType="afterEffect" fill="hold" presetClass="exit" presetID="3" presetSubtype="10">
                                  <p:stCondLst>
                                    <p:cond delay="350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5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3T21:27:11Z</dcterms:created>
  <dc:creator>Reg Gareau</dc:creator>
  <dc:description/>
  <dc:language>en-US</dc:language>
  <cp:lastModifiedBy>Brown</cp:lastModifiedBy>
  <dcterms:modified xsi:type="dcterms:W3CDTF">2008-09-09T09:53:38Z</dcterms:modified>
  <cp:revision>12</cp:revision>
  <dc:subject/>
  <dc:title>No Slide Title</dc:title>
</cp:coreProperties>
</file>