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SONATA8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46DF-7BC2-45DD-B796-BE545F1F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B5AF-B21D-4D57-9CDB-B546799B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854D-7041-43AB-9D88-8B848010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A97-07BD-49B6-BFC5-BFA5304C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641A-DD7D-44E0-B8AF-2006CEF5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F5A-1305-4DFC-AF12-A82A4D9D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E973-D6CD-4FAA-9376-D2409F16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B572-13B9-498B-A114-0B817D0A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1F5B-B36F-48CA-9D70-9E223544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D43E-4520-4DBE-855E-B48EB443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D11-22FA-4656-AB4D-63DA5692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D05-5A20-4BFB-A9FA-4772A33F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2AAB-82AB-44B6-876C-95C536E2C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NATA8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ap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56272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articularly useful stress management techn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9144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cture yourself near a strea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6383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rds are singing in the crisp, cool, mountain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36232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08628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809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oothing sound of a gentle waterfall fills the air with a cascade of sere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8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4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36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6840" y="51055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ater is cl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6707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easily make out the face of the person whose head you're ho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 the wate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1219320"/>
            <a:ext cx="9067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now. Don’t you feel be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If you liked that, you can download it from my web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phil-race.co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4114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/>
          </p:cNvPr>
          <p:cNvSpPr/>
          <p:nvPr/>
        </p:nvSpPr>
        <p:spPr>
          <a:xfrm>
            <a:off x="2895480" y="6019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601"/>
                            </p:stCondLst>
                            <p:childTnLst>
                              <p:par>
                                <p:cTn id="49" nodeType="afterEffect" fill="hold" presetClass="exit" presetID="3" presetSubtype="10">
                                  <p:stCondLst>
                                    <p:cond delay="3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21:27:11Z</dcterms:created>
  <dc:creator>Reg Gareau</dc:creator>
  <dc:description/>
  <dc:language>en-US</dc:language>
  <cp:lastModifiedBy>Brown</cp:lastModifiedBy>
  <dcterms:modified xsi:type="dcterms:W3CDTF">2008-09-09T09:53:38Z</dcterms:modified>
  <cp:revision>12</cp:revision>
  <dc:subject/>
  <dc:title>No Slide Title</dc:title>
</cp:coreProperties>
</file>