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ONATA8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1FC-5881-43FF-A6B2-CE5F4AC9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FA1-6DEB-40A2-8873-B9633B0D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CA3F-BD3E-40C0-8955-634B07D4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93CF-123F-4566-98C2-9C6D9143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C6C-15B1-4865-B510-119D6F0D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24F7-D53F-44BE-B56C-4AABC082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6F5-F8AB-4DA7-B867-04C1CEC5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3A3-15EE-4665-959A-55CC59AF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A0EE-373B-45AD-8843-89BDECFF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7A0-52F7-4C6E-A77D-7D5F82BE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4F9D-3E78-4610-A97A-68D9A573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C38-02E7-4923-9BEA-45BC4FFF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3226-E5AC-44EF-9E77-B838AE937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NATA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ap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5627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rticularly useful stress management techn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914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cture yourself near a strea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383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rds are singing in the crisp, cool, mountain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08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809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oothing sound of a gentle waterfall fills the air with a cascade of sere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8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4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36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6840" y="51055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ater is cl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670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easily make out the face of the person whose head you're ho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 the wat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219320"/>
            <a:ext cx="9067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now. Don’t you feel be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If you liked that, you can download it from my web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phil-race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4114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/>
          </p:cNvPr>
          <p:cNvSpPr/>
          <p:nvPr/>
        </p:nvSpPr>
        <p:spPr>
          <a:xfrm>
            <a:off x="2895480" y="6019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601"/>
                            </p:stCondLst>
                            <p:childTnLst>
                              <p:par>
                                <p:cTn id="49" nodeType="afterEffect" fill="hold" presetClass="exit" presetID="3" presetSubtype="10">
                                  <p:stCondLst>
                                    <p:cond delay="3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21:27:11Z</dcterms:created>
  <dc:creator>Reg Gareau</dc:creator>
  <dc:description/>
  <dc:language>en-US</dc:language>
  <cp:lastModifiedBy>Brown</cp:lastModifiedBy>
  <dcterms:modified xsi:type="dcterms:W3CDTF">2008-09-09T09:53:38Z</dcterms:modified>
  <cp:revision>12</cp:revision>
  <dc:subject/>
  <dc:title>No Slide Title</dc:title>
</cp:coreProperties>
</file>